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92000" y="836280"/>
            <a:ext cx="5283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乘法</a:t>
            </a:r>
            <a:endParaRPr b="0" lang="en-US" sz="4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Text Box 5"/>
          <p:cNvSpPr/>
          <p:nvPr/>
        </p:nvSpPr>
        <p:spPr>
          <a:xfrm>
            <a:off x="179280" y="1844640"/>
            <a:ext cx="885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一个数的几分之几是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3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乘分数的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4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分数乘法的简便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\\192.168.1.3\临时中转站1_以本人姓名建目录\开发中心-多媒体部\02美术部\晨会文件\04宁煌\人教数学教参\01.png"/>
          <p:cNvPicPr/>
          <p:nvPr/>
        </p:nvPicPr>
        <p:blipFill>
          <a:blip r:embed="rId2"/>
          <a:stretch/>
        </p:blipFill>
        <p:spPr>
          <a:xfrm>
            <a:off x="755640" y="9619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6856560" y="429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16920" y="35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357120" y="284040"/>
            <a:ext cx="8371080" cy="6280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58" name="" descr=""/>
          <p:cNvPicPr/>
          <p:nvPr/>
        </p:nvPicPr>
        <p:blipFill>
          <a:blip r:embed="rId3"/>
          <a:stretch/>
        </p:blipFill>
        <p:spPr>
          <a:xfrm>
            <a:off x="324000" y="28584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5603760" y="2562120"/>
            <a:ext cx="4622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"/>
          <p:cNvSpPr/>
          <p:nvPr/>
        </p:nvSpPr>
        <p:spPr>
          <a:xfrm>
            <a:off x="325440" y="1268280"/>
            <a:ext cx="59752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巩固练习，提升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988920" y="2701800"/>
            <a:ext cx="41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      是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5249880" y="267984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1000080" y="3714840"/>
            <a:ext cx="41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      是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7"/>
          <p:cNvSpPr/>
          <p:nvPr/>
        </p:nvSpPr>
        <p:spPr>
          <a:xfrm>
            <a:off x="1027080" y="1978200"/>
            <a:ext cx="5975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只列式，不计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9"/>
          <p:cNvSpPr/>
          <p:nvPr/>
        </p:nvSpPr>
        <p:spPr>
          <a:xfrm>
            <a:off x="484200" y="189000"/>
            <a:ext cx="27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758960" y="2506680"/>
            <a:ext cx="523800" cy="778680"/>
            <a:chOff x="1758960" y="2506680"/>
            <a:chExt cx="523800" cy="778680"/>
          </a:xfrm>
        </p:grpSpPr>
        <p:sp>
          <p:nvSpPr>
            <p:cNvPr id="368" name=""/>
            <p:cNvSpPr/>
            <p:nvPr/>
          </p:nvSpPr>
          <p:spPr>
            <a:xfrm>
              <a:off x="1778040" y="28623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81280" y="25066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58960" y="29257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724120" y="2492280"/>
            <a:ext cx="533520" cy="778680"/>
            <a:chOff x="2724120" y="2492280"/>
            <a:chExt cx="533520" cy="778680"/>
          </a:xfrm>
        </p:grpSpPr>
        <p:sp>
          <p:nvSpPr>
            <p:cNvPr id="372" name=""/>
            <p:cNvSpPr/>
            <p:nvPr/>
          </p:nvSpPr>
          <p:spPr>
            <a:xfrm>
              <a:off x="2752560" y="284796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36720" y="2492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724120" y="2911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752560" y="3500280"/>
            <a:ext cx="533520" cy="778680"/>
            <a:chOff x="2752560" y="3500280"/>
            <a:chExt cx="533520" cy="778680"/>
          </a:xfrm>
        </p:grpSpPr>
        <p:sp>
          <p:nvSpPr>
            <p:cNvPr id="376" name=""/>
            <p:cNvSpPr/>
            <p:nvPr/>
          </p:nvSpPr>
          <p:spPr>
            <a:xfrm>
              <a:off x="2781000" y="385596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65160" y="3500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752560" y="3919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704960" y="3497400"/>
            <a:ext cx="504720" cy="778320"/>
            <a:chOff x="1704960" y="3497400"/>
            <a:chExt cx="504720" cy="778320"/>
          </a:xfrm>
        </p:grpSpPr>
        <p:sp>
          <p:nvSpPr>
            <p:cNvPr id="380" name=""/>
            <p:cNvSpPr/>
            <p:nvPr/>
          </p:nvSpPr>
          <p:spPr>
            <a:xfrm>
              <a:off x="1704960" y="38527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98560" y="34974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85960" y="391608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9"/>
          <p:cNvSpPr/>
          <p:nvPr/>
        </p:nvSpPr>
        <p:spPr>
          <a:xfrm>
            <a:off x="4884840" y="2562120"/>
            <a:ext cx="4604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5268960" y="3689280"/>
            <a:ext cx="3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9"/>
          <p:cNvSpPr/>
          <p:nvPr/>
        </p:nvSpPr>
        <p:spPr>
          <a:xfrm>
            <a:off x="5689440" y="3522600"/>
            <a:ext cx="4604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916520" y="2438280"/>
            <a:ext cx="1263600" cy="797760"/>
            <a:chOff x="4916520" y="2438280"/>
            <a:chExt cx="1263600" cy="797760"/>
          </a:xfrm>
        </p:grpSpPr>
        <p:sp>
          <p:nvSpPr>
            <p:cNvPr id="387" name="Text Box 8"/>
            <p:cNvSpPr/>
            <p:nvPr/>
          </p:nvSpPr>
          <p:spPr>
            <a:xfrm>
              <a:off x="5261040" y="2670120"/>
              <a:ext cx="3380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5646600" y="2438280"/>
              <a:ext cx="533520" cy="778680"/>
              <a:chOff x="5646600" y="2438280"/>
              <a:chExt cx="533520" cy="778680"/>
            </a:xfrm>
          </p:grpSpPr>
          <p:sp>
            <p:nvSpPr>
              <p:cNvPr id="389" name=""/>
              <p:cNvSpPr/>
              <p:nvPr/>
            </p:nvSpPr>
            <p:spPr>
              <a:xfrm>
                <a:off x="5675040" y="27939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659200" y="2438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646600" y="2857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4916520" y="2457360"/>
              <a:ext cx="523800" cy="778680"/>
              <a:chOff x="4916520" y="2457360"/>
              <a:chExt cx="523800" cy="778680"/>
            </a:xfrm>
          </p:grpSpPr>
          <p:sp>
            <p:nvSpPr>
              <p:cNvPr id="393" name=""/>
              <p:cNvSpPr/>
              <p:nvPr/>
            </p:nvSpPr>
            <p:spPr>
              <a:xfrm>
                <a:off x="4935600" y="2813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38840" y="24573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916520" y="2876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6" name="Rectangle 9"/>
          <p:cNvSpPr/>
          <p:nvPr/>
        </p:nvSpPr>
        <p:spPr>
          <a:xfrm>
            <a:off x="4859280" y="3522600"/>
            <a:ext cx="460440" cy="63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4859280" y="3408480"/>
            <a:ext cx="1413000" cy="778320"/>
            <a:chOff x="4859280" y="3408480"/>
            <a:chExt cx="1413000" cy="778320"/>
          </a:xfrm>
        </p:grpSpPr>
        <p:grpSp>
          <p:nvGrpSpPr>
            <p:cNvPr id="398" name=""/>
            <p:cNvGrpSpPr/>
            <p:nvPr/>
          </p:nvGrpSpPr>
          <p:grpSpPr>
            <a:xfrm>
              <a:off x="4859280" y="3408480"/>
              <a:ext cx="504720" cy="778320"/>
              <a:chOff x="4859280" y="3408480"/>
              <a:chExt cx="504720" cy="778320"/>
            </a:xfrm>
          </p:grpSpPr>
          <p:sp>
            <p:nvSpPr>
              <p:cNvPr id="399" name=""/>
              <p:cNvSpPr/>
              <p:nvPr/>
            </p:nvSpPr>
            <p:spPr>
              <a:xfrm>
                <a:off x="4859280" y="3763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952880" y="3408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940280" y="382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5738760" y="3408480"/>
              <a:ext cx="533520" cy="778320"/>
              <a:chOff x="5738760" y="3408480"/>
              <a:chExt cx="533520" cy="778320"/>
            </a:xfrm>
          </p:grpSpPr>
          <p:sp>
            <p:nvSpPr>
              <p:cNvPr id="403" name=""/>
              <p:cNvSpPr/>
              <p:nvPr/>
            </p:nvSpPr>
            <p:spPr>
              <a:xfrm>
                <a:off x="5767200" y="37638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751360" y="3408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738760" y="382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8"/>
            <p:cNvSpPr/>
            <p:nvPr/>
          </p:nvSpPr>
          <p:spPr>
            <a:xfrm>
              <a:off x="5297400" y="3633480"/>
              <a:ext cx="3380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684360" y="177336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625320" y="22622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无脊椎动物中游泳最快的是乌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它每分钟可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611280" y="3643200"/>
            <a:ext cx="85327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李叔叔每分钟游的距离是乌贼的       。李叔叔每分钟游多少千米？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620640" y="4211640"/>
            <a:ext cx="756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乌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钟可以游多少千米？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"/>
          <p:cNvSpPr/>
          <p:nvPr/>
        </p:nvSpPr>
        <p:spPr>
          <a:xfrm>
            <a:off x="324000" y="5807160"/>
            <a:ext cx="799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5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4"/>
          <p:cNvSpPr/>
          <p:nvPr/>
        </p:nvSpPr>
        <p:spPr>
          <a:xfrm>
            <a:off x="324000" y="5270400"/>
            <a:ext cx="57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633240"/>
            <a:ext cx="84582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484200" y="189000"/>
            <a:ext cx="502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"/>
          <p:cNvSpPr/>
          <p:nvPr/>
        </p:nvSpPr>
        <p:spPr>
          <a:xfrm>
            <a:off x="738360" y="4703760"/>
            <a:ext cx="756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决问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李叔叔每分钟游多少千米？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843280" y="2421000"/>
            <a:ext cx="504720" cy="778680"/>
            <a:chOff x="2843280" y="2421000"/>
            <a:chExt cx="504720" cy="778680"/>
          </a:xfrm>
        </p:grpSpPr>
        <p:sp>
          <p:nvSpPr>
            <p:cNvPr id="418" name=""/>
            <p:cNvSpPr/>
            <p:nvPr/>
          </p:nvSpPr>
          <p:spPr>
            <a:xfrm>
              <a:off x="2843280" y="2776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36880" y="2421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24280" y="2840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" name="" descr=""/>
          <p:cNvPicPr/>
          <p:nvPr/>
        </p:nvPicPr>
        <p:blipFill>
          <a:blip r:embed="rId2"/>
          <a:stretch/>
        </p:blipFill>
        <p:spPr>
          <a:xfrm>
            <a:off x="5435640" y="2224080"/>
            <a:ext cx="2997000" cy="1440000"/>
          </a:xfrm>
          <a:prstGeom prst="rect">
            <a:avLst/>
          </a:prstGeom>
          <a:ln w="0">
            <a:noFill/>
          </a:ln>
        </p:spPr>
      </p:pic>
      <p:grpSp>
        <p:nvGrpSpPr>
          <p:cNvPr id="422" name=""/>
          <p:cNvGrpSpPr/>
          <p:nvPr/>
        </p:nvGrpSpPr>
        <p:grpSpPr>
          <a:xfrm>
            <a:off x="4932360" y="3500280"/>
            <a:ext cx="504720" cy="778680"/>
            <a:chOff x="4932360" y="3500280"/>
            <a:chExt cx="504720" cy="778680"/>
          </a:xfrm>
        </p:grpSpPr>
        <p:sp>
          <p:nvSpPr>
            <p:cNvPr id="423" name=""/>
            <p:cNvSpPr/>
            <p:nvPr/>
          </p:nvSpPr>
          <p:spPr>
            <a:xfrm>
              <a:off x="4932360" y="3855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025960" y="350028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3360" y="39193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116000" y="5549760"/>
            <a:ext cx="8280360" cy="1128960"/>
            <a:chOff x="1116000" y="5549760"/>
            <a:chExt cx="8280360" cy="1128960"/>
          </a:xfrm>
        </p:grpSpPr>
        <p:sp>
          <p:nvSpPr>
            <p:cNvPr id="427" name="Text Box 13"/>
            <p:cNvSpPr/>
            <p:nvPr/>
          </p:nvSpPr>
          <p:spPr>
            <a:xfrm>
              <a:off x="1116000" y="5670360"/>
              <a:ext cx="8280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理解“李叔叔的游泳速度是乌贼的      ”这句话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把乌贼的速度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李叔叔的游泳速度有这样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6299280" y="5549760"/>
              <a:ext cx="504720" cy="778680"/>
              <a:chOff x="6299280" y="5549760"/>
              <a:chExt cx="504720" cy="778680"/>
            </a:xfrm>
          </p:grpSpPr>
          <p:sp>
            <p:nvSpPr>
              <p:cNvPr id="429" name=""/>
              <p:cNvSpPr/>
              <p:nvPr/>
            </p:nvSpPr>
            <p:spPr>
              <a:xfrm>
                <a:off x="6299280" y="59054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392880" y="5549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380280" y="5968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684360" y="177336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484200" y="189000"/>
            <a:ext cx="322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"/>
          <p:cNvSpPr/>
          <p:nvPr/>
        </p:nvSpPr>
        <p:spPr>
          <a:xfrm>
            <a:off x="260280" y="5364000"/>
            <a:ext cx="7561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请你试着做一做。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92200" y="4221000"/>
            <a:ext cx="8028000" cy="1137240"/>
            <a:chOff x="592200" y="4221000"/>
            <a:chExt cx="8028000" cy="1137240"/>
          </a:xfrm>
        </p:grpSpPr>
        <p:sp>
          <p:nvSpPr>
            <p:cNvPr id="438" name="Text Box 10"/>
            <p:cNvSpPr/>
            <p:nvPr/>
          </p:nvSpPr>
          <p:spPr>
            <a:xfrm>
              <a:off x="592200" y="4221000"/>
              <a:ext cx="802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求李叔叔每分钟游多少千米怎样列式？你是怎样想的？（求李叔叔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每分钟游多少千米就是求      的      是多少，列式：            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3732120" y="4572000"/>
              <a:ext cx="504720" cy="778320"/>
              <a:chOff x="3732120" y="4572000"/>
              <a:chExt cx="504720" cy="778320"/>
            </a:xfrm>
          </p:grpSpPr>
          <p:sp>
            <p:nvSpPr>
              <p:cNvPr id="440" name=""/>
              <p:cNvSpPr/>
              <p:nvPr/>
            </p:nvSpPr>
            <p:spPr>
              <a:xfrm>
                <a:off x="3732120" y="4927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3825720" y="4572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813120" y="4990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408560" y="4572000"/>
              <a:ext cx="504720" cy="778320"/>
              <a:chOff x="4408560" y="4572000"/>
              <a:chExt cx="504720" cy="778320"/>
            </a:xfrm>
          </p:grpSpPr>
          <p:sp>
            <p:nvSpPr>
              <p:cNvPr id="444" name=""/>
              <p:cNvSpPr/>
              <p:nvPr/>
            </p:nvSpPr>
            <p:spPr>
              <a:xfrm>
                <a:off x="4408560" y="4927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502160" y="4572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4489560" y="4990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6534360" y="4578120"/>
              <a:ext cx="1296360" cy="780120"/>
              <a:chOff x="6534360" y="4578120"/>
              <a:chExt cx="1296360" cy="78012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534360" y="4579560"/>
                <a:ext cx="504360" cy="778680"/>
                <a:chOff x="6534360" y="4579560"/>
                <a:chExt cx="504360" cy="778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534360" y="4935240"/>
                  <a:ext cx="504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627600" y="457956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615000" y="499860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7326000" y="4578120"/>
                <a:ext cx="504720" cy="778680"/>
                <a:chOff x="7326000" y="4578120"/>
                <a:chExt cx="504720" cy="7786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326000" y="493380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419600" y="457812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407000" y="499716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962760" y="4795560"/>
                <a:ext cx="35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Rectangle 2"/>
          <p:cNvSpPr/>
          <p:nvPr/>
        </p:nvSpPr>
        <p:spPr>
          <a:xfrm>
            <a:off x="625320" y="226224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无脊椎动物中游泳最快的是乌贼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它每分钟可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2843280" y="2421000"/>
            <a:ext cx="504720" cy="778680"/>
            <a:chOff x="2843280" y="2421000"/>
            <a:chExt cx="504720" cy="778680"/>
          </a:xfrm>
        </p:grpSpPr>
        <p:sp>
          <p:nvSpPr>
            <p:cNvPr id="459" name=""/>
            <p:cNvSpPr/>
            <p:nvPr/>
          </p:nvSpPr>
          <p:spPr>
            <a:xfrm>
              <a:off x="2843280" y="2776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36880" y="2421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24280" y="2840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5435640" y="2224080"/>
            <a:ext cx="29970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684360" y="1773360"/>
            <a:ext cx="72673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484200" y="18900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890640" y="220032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2"/>
          <p:cNvSpPr/>
          <p:nvPr/>
        </p:nvSpPr>
        <p:spPr>
          <a:xfrm>
            <a:off x="684360" y="5589720"/>
            <a:ext cx="75610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比较三种约分的过程有什么不同，你喜欢哪个？说说你的想法。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608800" y="2219400"/>
            <a:ext cx="13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km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1920960" y="1989000"/>
            <a:ext cx="3835440" cy="792720"/>
            <a:chOff x="1920960" y="1989000"/>
            <a:chExt cx="3835440" cy="792720"/>
          </a:xfrm>
        </p:grpSpPr>
        <p:grpSp>
          <p:nvGrpSpPr>
            <p:cNvPr id="471" name=""/>
            <p:cNvGrpSpPr/>
            <p:nvPr/>
          </p:nvGrpSpPr>
          <p:grpSpPr>
            <a:xfrm>
              <a:off x="3370320" y="1998360"/>
              <a:ext cx="1008000" cy="778680"/>
              <a:chOff x="3370320" y="1998360"/>
              <a:chExt cx="1008000" cy="778680"/>
            </a:xfrm>
          </p:grpSpPr>
          <p:sp>
            <p:nvSpPr>
              <p:cNvPr id="472" name=""/>
              <p:cNvSpPr/>
              <p:nvPr/>
            </p:nvSpPr>
            <p:spPr>
              <a:xfrm>
                <a:off x="3370320" y="2354040"/>
                <a:ext cx="1008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×4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02080" y="1998360"/>
                <a:ext cx="8431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×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470400" y="2417400"/>
                <a:ext cx="82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1920960" y="1989000"/>
              <a:ext cx="1296720" cy="780120"/>
              <a:chOff x="1920960" y="1989000"/>
              <a:chExt cx="1296720" cy="78012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1920960" y="1990440"/>
                <a:ext cx="504720" cy="778680"/>
                <a:chOff x="1920960" y="1990440"/>
                <a:chExt cx="504720" cy="7786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1920960" y="23461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014560" y="19904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001960" y="240948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2712960" y="1989000"/>
                <a:ext cx="504720" cy="778680"/>
                <a:chOff x="2712960" y="1989000"/>
                <a:chExt cx="504720" cy="7786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2712960" y="23446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806560" y="19890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793960" y="24080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2349720" y="220644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3092400" y="220500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240440" y="220968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251680" y="2000160"/>
              <a:ext cx="504720" cy="778680"/>
              <a:chOff x="5251680" y="2000160"/>
              <a:chExt cx="504720" cy="778680"/>
            </a:xfrm>
          </p:grpSpPr>
          <p:sp>
            <p:nvSpPr>
              <p:cNvPr id="488" name=""/>
              <p:cNvSpPr/>
              <p:nvPr/>
            </p:nvSpPr>
            <p:spPr>
              <a:xfrm>
                <a:off x="5251680" y="23558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345280" y="2000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332680" y="24192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4538880" y="2003400"/>
              <a:ext cx="772560" cy="778320"/>
              <a:chOff x="4538880" y="2003400"/>
              <a:chExt cx="772560" cy="778320"/>
            </a:xfrm>
          </p:grpSpPr>
          <p:sp>
            <p:nvSpPr>
              <p:cNvPr id="492" name=""/>
              <p:cNvSpPr/>
              <p:nvPr/>
            </p:nvSpPr>
            <p:spPr>
              <a:xfrm>
                <a:off x="4538880" y="2358720"/>
                <a:ext cx="7189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5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613040" y="2003400"/>
                <a:ext cx="6984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619520" y="2422080"/>
                <a:ext cx="421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4954680" y="22190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4691160" y="2176560"/>
            <a:ext cx="306360" cy="152280"/>
          </a:xfrm>
          <a:prstGeom prst="line">
            <a:avLst/>
          </a:prstGeom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656240" y="2541600"/>
            <a:ext cx="431640" cy="142920"/>
          </a:xfrm>
          <a:prstGeom prst="line">
            <a:avLst/>
          </a:prstGeom>
          <a:ln w="1908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681440" y="1792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627440" y="26478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890640" y="2959200"/>
            <a:ext cx="5265720" cy="1165320"/>
            <a:chOff x="890640" y="2959200"/>
            <a:chExt cx="5265720" cy="1165320"/>
          </a:xfrm>
        </p:grpSpPr>
        <p:sp>
          <p:nvSpPr>
            <p:cNvPr id="501" name="Text Box 8"/>
            <p:cNvSpPr/>
            <p:nvPr/>
          </p:nvSpPr>
          <p:spPr>
            <a:xfrm>
              <a:off x="890640" y="3335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1913040" y="2959200"/>
              <a:ext cx="4243320" cy="1165320"/>
              <a:chOff x="1913040" y="2959200"/>
              <a:chExt cx="4243320" cy="1165320"/>
            </a:xfrm>
          </p:grpSpPr>
          <p:grpSp>
            <p:nvGrpSpPr>
              <p:cNvPr id="503" name=""/>
              <p:cNvGrpSpPr/>
              <p:nvPr/>
            </p:nvGrpSpPr>
            <p:grpSpPr>
              <a:xfrm>
                <a:off x="4505400" y="3124440"/>
                <a:ext cx="504720" cy="778320"/>
                <a:chOff x="4505400" y="3124440"/>
                <a:chExt cx="504720" cy="77832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4505400" y="34797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4599000" y="31244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586400" y="3543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7" name=""/>
              <p:cNvGrpSpPr/>
              <p:nvPr/>
            </p:nvGrpSpPr>
            <p:grpSpPr>
              <a:xfrm>
                <a:off x="1913040" y="2959200"/>
                <a:ext cx="4243320" cy="1165320"/>
                <a:chOff x="1913040" y="2959200"/>
                <a:chExt cx="4243320" cy="1165320"/>
              </a:xfrm>
            </p:grpSpPr>
            <p:grpSp>
              <p:nvGrpSpPr>
                <p:cNvPr id="508" name=""/>
                <p:cNvGrpSpPr/>
                <p:nvPr/>
              </p:nvGrpSpPr>
              <p:grpSpPr>
                <a:xfrm>
                  <a:off x="3362400" y="3132360"/>
                  <a:ext cx="1008000" cy="778320"/>
                  <a:chOff x="3362400" y="3132360"/>
                  <a:chExt cx="1008000" cy="77832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>
                    <a:off x="3362400" y="3487680"/>
                    <a:ext cx="100800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0×4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>
                    <a:off x="3494160" y="3132360"/>
                    <a:ext cx="8431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9×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"/>
                  <p:cNvSpPr/>
                  <p:nvPr/>
                </p:nvSpPr>
                <p:spPr>
                  <a:xfrm>
                    <a:off x="3462480" y="3551040"/>
                    <a:ext cx="826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2" name=""/>
                <p:cNvGrpSpPr/>
                <p:nvPr/>
              </p:nvGrpSpPr>
              <p:grpSpPr>
                <a:xfrm>
                  <a:off x="1913040" y="2959200"/>
                  <a:ext cx="4243320" cy="1165320"/>
                  <a:chOff x="1913040" y="2959200"/>
                  <a:chExt cx="4243320" cy="11653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3516480" y="3286080"/>
                    <a:ext cx="306360" cy="15264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3938760" y="3319560"/>
                    <a:ext cx="306360" cy="152280"/>
                  </a:xfrm>
                  <a:prstGeom prst="line">
                    <a:avLst/>
                  </a:prstGeom>
                  <a:ln w="19080">
                    <a:solidFill>
                      <a:srgbClr val="66cc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5" name=""/>
                  <p:cNvGrpSpPr/>
                  <p:nvPr/>
                </p:nvGrpSpPr>
                <p:grpSpPr>
                  <a:xfrm>
                    <a:off x="1913040" y="2959200"/>
                    <a:ext cx="4243320" cy="1165320"/>
                    <a:chOff x="1913040" y="2959200"/>
                    <a:chExt cx="4243320" cy="1165320"/>
                  </a:xfrm>
                </p:grpSpPr>
                <p:grpSp>
                  <p:nvGrpSpPr>
                    <p:cNvPr id="516" name=""/>
                    <p:cNvGrpSpPr/>
                    <p:nvPr/>
                  </p:nvGrpSpPr>
                  <p:grpSpPr>
                    <a:xfrm>
                      <a:off x="1913040" y="3122640"/>
                      <a:ext cx="1296720" cy="780120"/>
                      <a:chOff x="1913040" y="3122640"/>
                      <a:chExt cx="1296720" cy="780120"/>
                    </a:xfrm>
                  </p:grpSpPr>
                  <p:grpSp>
                    <p:nvGrpSpPr>
                      <p:cNvPr id="517" name=""/>
                      <p:cNvGrpSpPr/>
                      <p:nvPr/>
                    </p:nvGrpSpPr>
                    <p:grpSpPr>
                      <a:xfrm>
                        <a:off x="1913040" y="3124080"/>
                        <a:ext cx="504720" cy="778680"/>
                        <a:chOff x="1913040" y="3124080"/>
                        <a:chExt cx="504720" cy="778680"/>
                      </a:xfrm>
                    </p:grpSpPr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>
                          <a:off x="1913040" y="3479760"/>
                          <a:ext cx="504720" cy="423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10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>
                          <a:off x="2006640" y="3124080"/>
                          <a:ext cx="360360" cy="423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9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"/>
                        <p:cNvSpPr/>
                        <p:nvPr/>
                      </p:nvSpPr>
                      <p:spPr>
                        <a:xfrm>
                          <a:off x="1994040" y="3543120"/>
                          <a:ext cx="3603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1" name=""/>
                      <p:cNvGrpSpPr/>
                      <p:nvPr/>
                    </p:nvGrpSpPr>
                    <p:grpSpPr>
                      <a:xfrm>
                        <a:off x="2705040" y="3122640"/>
                        <a:ext cx="504720" cy="778680"/>
                        <a:chOff x="2705040" y="3122640"/>
                        <a:chExt cx="504720" cy="778680"/>
                      </a:xfrm>
                    </p:grpSpPr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2705040" y="3478320"/>
                          <a:ext cx="504720" cy="423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45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"/>
                        <p:cNvSpPr/>
                        <p:nvPr/>
                      </p:nvSpPr>
                      <p:spPr>
                        <a:xfrm>
                          <a:off x="2798640" y="3122640"/>
                          <a:ext cx="360360" cy="42300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lnSpc>
                              <a:spcPct val="120000"/>
                            </a:lnSpc>
                            <a:spcBef>
                              <a:spcPts val="1125"/>
                            </a:spcBef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  <a:ea typeface="宋体"/>
                            </a:rPr>
                            <a:t>4</a:t>
                          </a: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2786040" y="3541680"/>
                          <a:ext cx="360360" cy="0"/>
                        </a:xfrm>
                        <a:prstGeom prst="line">
                          <a:avLst/>
                        </a:prstGeom>
                        <a:ln w="255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ctr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525" name=""/>
                      <p:cNvSpPr/>
                      <p:nvPr/>
                    </p:nvSpPr>
                    <p:spPr>
                      <a:xfrm>
                        <a:off x="2341800" y="3340080"/>
                        <a:ext cx="358560" cy="368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rPr>
                          <a:t>×</a:t>
                        </a: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3084480" y="3338640"/>
                      <a:ext cx="505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4208400" y="3343320"/>
                      <a:ext cx="505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3459240" y="3637080"/>
                      <a:ext cx="306360" cy="152280"/>
                    </a:xfrm>
                    <a:prstGeom prst="line">
                      <a:avLst/>
                    </a:prstGeom>
                    <a:ln w="19080">
                      <a:solidFill>
                        <a:srgbClr val="66c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3983040" y="3646440"/>
                      <a:ext cx="306360" cy="152640"/>
                    </a:xfrm>
                    <a:prstGeom prst="line">
                      <a:avLst/>
                    </a:prstGeom>
                    <a:ln w="19080">
                      <a:solidFill>
                        <a:srgbClr val="66cc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>
                      <a:off x="4835520" y="3338640"/>
                      <a:ext cx="13208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3468960" y="2959200"/>
                      <a:ext cx="431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3894120" y="2965680"/>
                      <a:ext cx="43200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3468960" y="3751200"/>
                      <a:ext cx="431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4000680" y="3756240"/>
                      <a:ext cx="4316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535" name=""/>
          <p:cNvGrpSpPr/>
          <p:nvPr/>
        </p:nvGrpSpPr>
        <p:grpSpPr>
          <a:xfrm>
            <a:off x="895320" y="4179960"/>
            <a:ext cx="5692680" cy="1206360"/>
            <a:chOff x="895320" y="4179960"/>
            <a:chExt cx="5692680" cy="1206360"/>
          </a:xfrm>
        </p:grpSpPr>
        <p:sp>
          <p:nvSpPr>
            <p:cNvPr id="536" name="Text Box 11"/>
            <p:cNvSpPr/>
            <p:nvPr/>
          </p:nvSpPr>
          <p:spPr>
            <a:xfrm>
              <a:off x="895320" y="456876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"/>
            <p:cNvGrpSpPr/>
            <p:nvPr/>
          </p:nvGrpSpPr>
          <p:grpSpPr>
            <a:xfrm>
              <a:off x="1935000" y="4361040"/>
              <a:ext cx="4653000" cy="792720"/>
              <a:chOff x="1935000" y="4361040"/>
              <a:chExt cx="4653000" cy="792720"/>
            </a:xfrm>
          </p:grpSpPr>
          <p:grpSp>
            <p:nvGrpSpPr>
              <p:cNvPr id="538" name=""/>
              <p:cNvGrpSpPr/>
              <p:nvPr/>
            </p:nvGrpSpPr>
            <p:grpSpPr>
              <a:xfrm>
                <a:off x="3427200" y="4370400"/>
                <a:ext cx="1296720" cy="780120"/>
                <a:chOff x="3427200" y="4370400"/>
                <a:chExt cx="1296720" cy="780120"/>
              </a:xfrm>
            </p:grpSpPr>
            <p:grpSp>
              <p:nvGrpSpPr>
                <p:cNvPr id="539" name=""/>
                <p:cNvGrpSpPr/>
                <p:nvPr/>
              </p:nvGrpSpPr>
              <p:grpSpPr>
                <a:xfrm>
                  <a:off x="3427200" y="4371840"/>
                  <a:ext cx="504720" cy="778680"/>
                  <a:chOff x="3427200" y="4371840"/>
                  <a:chExt cx="504720" cy="778680"/>
                </a:xfrm>
              </p:grpSpPr>
              <p:sp>
                <p:nvSpPr>
                  <p:cNvPr id="540" name=""/>
                  <p:cNvSpPr/>
                  <p:nvPr/>
                </p:nvSpPr>
                <p:spPr>
                  <a:xfrm>
                    <a:off x="3427200" y="47275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3520800" y="43718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3508200" y="47908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4219200" y="4370400"/>
                  <a:ext cx="504720" cy="778680"/>
                  <a:chOff x="4219200" y="4370400"/>
                  <a:chExt cx="504720" cy="77868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>
                    <a:off x="4219200" y="472608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4312800" y="437040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4300200" y="478944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3855960" y="4587840"/>
                  <a:ext cx="358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935000" y="4361040"/>
                <a:ext cx="1296720" cy="780120"/>
                <a:chOff x="1935000" y="4361040"/>
                <a:chExt cx="1296720" cy="780120"/>
              </a:xfrm>
            </p:grpSpPr>
            <p:grpSp>
              <p:nvGrpSpPr>
                <p:cNvPr id="549" name=""/>
                <p:cNvGrpSpPr/>
                <p:nvPr/>
              </p:nvGrpSpPr>
              <p:grpSpPr>
                <a:xfrm>
                  <a:off x="1935000" y="4362480"/>
                  <a:ext cx="504720" cy="778680"/>
                  <a:chOff x="1935000" y="4362480"/>
                  <a:chExt cx="504720" cy="77868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>
                    <a:off x="1935000" y="471816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2028600" y="436248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9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2016000" y="47815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2727000" y="4361040"/>
                  <a:ext cx="504720" cy="778680"/>
                  <a:chOff x="2727000" y="4361040"/>
                  <a:chExt cx="504720" cy="77868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>
                    <a:off x="2727000" y="4716720"/>
                    <a:ext cx="50472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2820600" y="43610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2808000" y="478008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"/>
                <p:cNvSpPr/>
                <p:nvPr/>
              </p:nvSpPr>
              <p:spPr>
                <a:xfrm>
                  <a:off x="2363760" y="4578480"/>
                  <a:ext cx="358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3106440" y="4577040"/>
                <a:ext cx="50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4930560" y="4375440"/>
                <a:ext cx="504720" cy="778320"/>
                <a:chOff x="4930560" y="4375440"/>
                <a:chExt cx="504720" cy="7783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4930560" y="47307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5024160" y="43754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5011560" y="47941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"/>
              <p:cNvSpPr/>
              <p:nvPr/>
            </p:nvSpPr>
            <p:spPr>
              <a:xfrm>
                <a:off x="4619520" y="45961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38440" y="4524480"/>
                <a:ext cx="306360" cy="152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346280" y="4557960"/>
                <a:ext cx="306360" cy="15228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481200" y="4875480"/>
                <a:ext cx="306360" cy="15228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84360" y="4884840"/>
                <a:ext cx="306360" cy="152640"/>
              </a:xfrm>
              <a:prstGeom prst="line">
                <a:avLst/>
              </a:prstGeom>
              <a:ln w="19080">
                <a:solidFill>
                  <a:srgbClr val="66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267160" y="4624560"/>
                <a:ext cx="132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km</a:t>
                </a: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"/>
            <p:cNvSpPr/>
            <p:nvPr/>
          </p:nvSpPr>
          <p:spPr>
            <a:xfrm>
              <a:off x="3506760" y="4189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317840" y="4179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525840" y="50151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98760" y="5018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79280" y="5986440"/>
            <a:ext cx="8713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6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结：你觉得分数乘法该怎样计算呢？（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分数乘分数，用分子相乘的积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分子</a:t>
            </a:r>
            <a:r>
              <a:rPr b="1" lang="en-US" sz="2000" spc="-1" strike="noStrike">
                <a:solidFill>
                  <a:srgbClr val="1c1c1c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用分母相乘的积作分母。为了计算简便</a:t>
            </a:r>
            <a:r>
              <a:rPr b="1" lang="en-US" sz="2000" spc="-1" strike="noStrike">
                <a:solidFill>
                  <a:srgbClr val="1c1c1c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  <a:ea typeface="宋体"/>
              </a:rPr>
              <a:t>可以先约分再乘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2"/>
          <p:cNvSpPr/>
          <p:nvPr/>
        </p:nvSpPr>
        <p:spPr>
          <a:xfrm>
            <a:off x="-246240" y="1925640"/>
            <a:ext cx="8977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要求乌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钟可以游多少千米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列式？（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512640" y="2770200"/>
            <a:ext cx="7562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你独立计算。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0"/>
          <p:cNvSpPr/>
          <p:nvPr/>
        </p:nvSpPr>
        <p:spPr>
          <a:xfrm>
            <a:off x="484200" y="189000"/>
            <a:ext cx="41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5121360" y="342108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这个结果是不是最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数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5084640" y="4707000"/>
            <a:ext cx="38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研讨问题：方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方法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约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方法你更喜欢哪个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2"/>
          <p:cNvSpPr/>
          <p:nvPr/>
        </p:nvSpPr>
        <p:spPr>
          <a:xfrm>
            <a:off x="611280" y="1844640"/>
            <a:ext cx="75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决问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乌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分钟可以游多少千米？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6051600" y="2139840"/>
            <a:ext cx="1328760" cy="778680"/>
            <a:chOff x="6051600" y="2139840"/>
            <a:chExt cx="1328760" cy="778680"/>
          </a:xfrm>
        </p:grpSpPr>
        <p:grpSp>
          <p:nvGrpSpPr>
            <p:cNvPr id="583" name=""/>
            <p:cNvGrpSpPr/>
            <p:nvPr/>
          </p:nvGrpSpPr>
          <p:grpSpPr>
            <a:xfrm>
              <a:off x="6051600" y="2139840"/>
              <a:ext cx="504720" cy="778680"/>
              <a:chOff x="6051600" y="2139840"/>
              <a:chExt cx="504720" cy="778680"/>
            </a:xfrm>
          </p:grpSpPr>
          <p:sp>
            <p:nvSpPr>
              <p:cNvPr id="584" name=""/>
              <p:cNvSpPr/>
              <p:nvPr/>
            </p:nvSpPr>
            <p:spPr>
              <a:xfrm>
                <a:off x="6051600" y="24955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145200" y="21398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132600" y="25588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7" name="Text Box 8"/>
            <p:cNvSpPr/>
            <p:nvPr/>
          </p:nvSpPr>
          <p:spPr>
            <a:xfrm>
              <a:off x="6451560" y="2365200"/>
              <a:ext cx="928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620640" y="3238560"/>
            <a:ext cx="4138560" cy="778680"/>
            <a:chOff x="620640" y="3238560"/>
            <a:chExt cx="4138560" cy="778680"/>
          </a:xfrm>
        </p:grpSpPr>
        <p:sp>
          <p:nvSpPr>
            <p:cNvPr id="589" name="Text Box 12"/>
            <p:cNvSpPr/>
            <p:nvPr/>
          </p:nvSpPr>
          <p:spPr>
            <a:xfrm>
              <a:off x="620640" y="344160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584360" y="3238560"/>
              <a:ext cx="3174840" cy="778680"/>
              <a:chOff x="1584360" y="3238560"/>
              <a:chExt cx="3174840" cy="77868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1584360" y="3238560"/>
                <a:ext cx="504720" cy="778680"/>
                <a:chOff x="1584360" y="3238560"/>
                <a:chExt cx="504720" cy="7786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584360" y="35942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677960" y="32385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665360" y="36576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Text Box 8"/>
              <p:cNvSpPr/>
              <p:nvPr/>
            </p:nvSpPr>
            <p:spPr>
              <a:xfrm>
                <a:off x="1984320" y="3463920"/>
                <a:ext cx="132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×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0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6" name=""/>
              <p:cNvGrpSpPr/>
              <p:nvPr/>
            </p:nvGrpSpPr>
            <p:grpSpPr>
              <a:xfrm>
                <a:off x="2916360" y="3238560"/>
                <a:ext cx="1187280" cy="759600"/>
                <a:chOff x="2916360" y="3238560"/>
                <a:chExt cx="1187280" cy="75960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3089520" y="357516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928960" y="3238560"/>
                  <a:ext cx="11746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9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916360" y="3657600"/>
                  <a:ext cx="826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3699000" y="34448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" name=""/>
              <p:cNvGrpSpPr/>
              <p:nvPr/>
            </p:nvGrpSpPr>
            <p:grpSpPr>
              <a:xfrm>
                <a:off x="4060800" y="3238560"/>
                <a:ext cx="698400" cy="768960"/>
                <a:chOff x="4060800" y="3238560"/>
                <a:chExt cx="698400" cy="76896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4108320" y="358452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060800" y="3238560"/>
                  <a:ext cx="6984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7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4122720" y="3657600"/>
                  <a:ext cx="495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5" name=""/>
          <p:cNvGrpSpPr/>
          <p:nvPr/>
        </p:nvGrpSpPr>
        <p:grpSpPr>
          <a:xfrm>
            <a:off x="617400" y="4062240"/>
            <a:ext cx="4861080" cy="1195200"/>
            <a:chOff x="617400" y="4062240"/>
            <a:chExt cx="4861080" cy="1195200"/>
          </a:xfrm>
        </p:grpSpPr>
        <p:grpSp>
          <p:nvGrpSpPr>
            <p:cNvPr id="606" name=""/>
            <p:cNvGrpSpPr/>
            <p:nvPr/>
          </p:nvGrpSpPr>
          <p:grpSpPr>
            <a:xfrm>
              <a:off x="617400" y="4259160"/>
              <a:ext cx="4861080" cy="778680"/>
              <a:chOff x="617400" y="4259160"/>
              <a:chExt cx="4861080" cy="778680"/>
            </a:xfrm>
          </p:grpSpPr>
          <p:grpSp>
            <p:nvGrpSpPr>
              <p:cNvPr id="607" name=""/>
              <p:cNvGrpSpPr/>
              <p:nvPr/>
            </p:nvGrpSpPr>
            <p:grpSpPr>
              <a:xfrm>
                <a:off x="617400" y="4259160"/>
                <a:ext cx="4138560" cy="778680"/>
                <a:chOff x="617400" y="4259160"/>
                <a:chExt cx="4138560" cy="778680"/>
              </a:xfrm>
            </p:grpSpPr>
            <p:sp>
              <p:nvSpPr>
                <p:cNvPr id="608" name="Text Box 12"/>
                <p:cNvSpPr/>
                <p:nvPr/>
              </p:nvSpPr>
              <p:spPr>
                <a:xfrm>
                  <a:off x="617400" y="4462200"/>
                  <a:ext cx="1224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预设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：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9" name=""/>
                <p:cNvGrpSpPr/>
                <p:nvPr/>
              </p:nvGrpSpPr>
              <p:grpSpPr>
                <a:xfrm>
                  <a:off x="1581120" y="4259160"/>
                  <a:ext cx="3174840" cy="778680"/>
                  <a:chOff x="1581120" y="4259160"/>
                  <a:chExt cx="3174840" cy="778680"/>
                </a:xfrm>
              </p:grpSpPr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1581120" y="4259160"/>
                    <a:ext cx="504720" cy="778680"/>
                    <a:chOff x="1581120" y="4259160"/>
                    <a:chExt cx="504720" cy="77868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1581120" y="461484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1674720" y="4259160"/>
                      <a:ext cx="3603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1662120" y="4678200"/>
                      <a:ext cx="360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4" name="Text Box 8"/>
                  <p:cNvSpPr/>
                  <p:nvPr/>
                </p:nvSpPr>
                <p:spPr>
                  <a:xfrm>
                    <a:off x="1981080" y="4484520"/>
                    <a:ext cx="13273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×</a:t>
                    </a: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0</a:t>
                    </a:r>
                    <a:r>
                      <a:rPr b="1" lang="zh-CN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5" name=""/>
                  <p:cNvGrpSpPr/>
                  <p:nvPr/>
                </p:nvGrpSpPr>
                <p:grpSpPr>
                  <a:xfrm>
                    <a:off x="2913120" y="4259160"/>
                    <a:ext cx="1187280" cy="759600"/>
                    <a:chOff x="2913120" y="4259160"/>
                    <a:chExt cx="1187280" cy="759600"/>
                  </a:xfrm>
                </p:grpSpPr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3086280" y="4595760"/>
                      <a:ext cx="5047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2925720" y="4259160"/>
                      <a:ext cx="11746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>
                      <a:off x="2913120" y="4678200"/>
                      <a:ext cx="82692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9" name=""/>
                  <p:cNvSpPr/>
                  <p:nvPr/>
                </p:nvSpPr>
                <p:spPr>
                  <a:xfrm>
                    <a:off x="3695760" y="4465440"/>
                    <a:ext cx="50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4057560" y="4259160"/>
                    <a:ext cx="698400" cy="768960"/>
                    <a:chOff x="4057560" y="4259160"/>
                    <a:chExt cx="698400" cy="76896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4105080" y="4605120"/>
                      <a:ext cx="50508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4057560" y="4259160"/>
                      <a:ext cx="6984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4119480" y="4678200"/>
                      <a:ext cx="495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624" name=""/>
              <p:cNvSpPr/>
              <p:nvPr/>
            </p:nvSpPr>
            <p:spPr>
              <a:xfrm>
                <a:off x="4613040" y="4475160"/>
                <a:ext cx="86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4074840" y="4422600"/>
              <a:ext cx="576360" cy="14436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141800" y="4781520"/>
              <a:ext cx="422280" cy="12672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22720" y="4062240"/>
              <a:ext cx="61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198680" y="488916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641520" y="5043600"/>
            <a:ext cx="3882960" cy="996480"/>
            <a:chOff x="641520" y="5043600"/>
            <a:chExt cx="3882960" cy="996480"/>
          </a:xfrm>
        </p:grpSpPr>
        <p:sp>
          <p:nvSpPr>
            <p:cNvPr id="630" name="Text Box 12"/>
            <p:cNvSpPr/>
            <p:nvPr/>
          </p:nvSpPr>
          <p:spPr>
            <a:xfrm>
              <a:off x="641520" y="5257440"/>
              <a:ext cx="12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1605240" y="5054400"/>
              <a:ext cx="504720" cy="778320"/>
              <a:chOff x="1605240" y="5054400"/>
              <a:chExt cx="504720" cy="778320"/>
            </a:xfrm>
          </p:grpSpPr>
          <p:sp>
            <p:nvSpPr>
              <p:cNvPr id="632" name=""/>
              <p:cNvSpPr/>
              <p:nvPr/>
            </p:nvSpPr>
            <p:spPr>
              <a:xfrm>
                <a:off x="1605240" y="54097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698840" y="50544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86240" y="5473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Text Box 8"/>
            <p:cNvSpPr/>
            <p:nvPr/>
          </p:nvSpPr>
          <p:spPr>
            <a:xfrm>
              <a:off x="2005200" y="5279760"/>
              <a:ext cx="132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53000" y="527976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833920" y="5043600"/>
              <a:ext cx="504720" cy="778320"/>
              <a:chOff x="2833920" y="5043600"/>
              <a:chExt cx="504720" cy="778320"/>
            </a:xfrm>
          </p:grpSpPr>
          <p:sp>
            <p:nvSpPr>
              <p:cNvPr id="638" name=""/>
              <p:cNvSpPr/>
              <p:nvPr/>
            </p:nvSpPr>
            <p:spPr>
              <a:xfrm>
                <a:off x="2833920" y="53989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27520" y="50436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914920" y="54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Text Box 8"/>
            <p:cNvSpPr/>
            <p:nvPr/>
          </p:nvSpPr>
          <p:spPr>
            <a:xfrm>
              <a:off x="3191040" y="5268600"/>
              <a:ext cx="118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907000" y="5619600"/>
              <a:ext cx="360360" cy="7092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500640" y="5421240"/>
              <a:ext cx="360360" cy="70920"/>
            </a:xfrm>
            <a:prstGeom prst="line">
              <a:avLst/>
            </a:prstGeom>
            <a:ln w="190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921040" y="5671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30880" y="50436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52560" y="429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484200" y="189000"/>
            <a:ext cx="25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252360" y="1413000"/>
            <a:ext cx="597528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三）巩固练习，提升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"/>
          <p:cNvSpPr/>
          <p:nvPr/>
        </p:nvSpPr>
        <p:spPr>
          <a:xfrm>
            <a:off x="757080" y="2473200"/>
            <a:ext cx="7560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计算下面各题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384200" y="3540240"/>
            <a:ext cx="1263600" cy="797040"/>
            <a:chOff x="1384200" y="3540240"/>
            <a:chExt cx="1263600" cy="797040"/>
          </a:xfrm>
        </p:grpSpPr>
        <p:sp>
          <p:nvSpPr>
            <p:cNvPr id="652" name="Text Box 8"/>
            <p:cNvSpPr/>
            <p:nvPr/>
          </p:nvSpPr>
          <p:spPr>
            <a:xfrm>
              <a:off x="1728720" y="3771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114280" y="3540240"/>
              <a:ext cx="533520" cy="778320"/>
              <a:chOff x="2114280" y="3540240"/>
              <a:chExt cx="533520" cy="778320"/>
            </a:xfrm>
          </p:grpSpPr>
          <p:sp>
            <p:nvSpPr>
              <p:cNvPr id="654" name=""/>
              <p:cNvSpPr/>
              <p:nvPr/>
            </p:nvSpPr>
            <p:spPr>
              <a:xfrm>
                <a:off x="2142720" y="38955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2126880" y="3540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114280" y="3958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1384200" y="3558960"/>
              <a:ext cx="523800" cy="778320"/>
              <a:chOff x="1384200" y="3558960"/>
              <a:chExt cx="523800" cy="778320"/>
            </a:xfrm>
          </p:grpSpPr>
          <p:sp>
            <p:nvSpPr>
              <p:cNvPr id="658" name=""/>
              <p:cNvSpPr/>
              <p:nvPr/>
            </p:nvSpPr>
            <p:spPr>
              <a:xfrm>
                <a:off x="1403280" y="39142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1406520" y="35589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384200" y="39776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1" name=""/>
          <p:cNvGrpSpPr/>
          <p:nvPr/>
        </p:nvGrpSpPr>
        <p:grpSpPr>
          <a:xfrm>
            <a:off x="3708360" y="3540240"/>
            <a:ext cx="1177920" cy="797040"/>
            <a:chOff x="3708360" y="3540240"/>
            <a:chExt cx="1177920" cy="797040"/>
          </a:xfrm>
        </p:grpSpPr>
        <p:sp>
          <p:nvSpPr>
            <p:cNvPr id="662" name="Text Box 8"/>
            <p:cNvSpPr/>
            <p:nvPr/>
          </p:nvSpPr>
          <p:spPr>
            <a:xfrm>
              <a:off x="4052880" y="377172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3708360" y="3540240"/>
              <a:ext cx="1177920" cy="797040"/>
              <a:chOff x="3708360" y="3540240"/>
              <a:chExt cx="1177920" cy="797040"/>
            </a:xfrm>
          </p:grpSpPr>
          <p:sp>
            <p:nvSpPr>
              <p:cNvPr id="664" name=""/>
              <p:cNvSpPr/>
              <p:nvPr/>
            </p:nvSpPr>
            <p:spPr>
              <a:xfrm>
                <a:off x="4381560" y="389556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51400" y="3540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438440" y="3958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" name=""/>
              <p:cNvGrpSpPr/>
              <p:nvPr/>
            </p:nvGrpSpPr>
            <p:grpSpPr>
              <a:xfrm>
                <a:off x="3708360" y="3558960"/>
                <a:ext cx="523800" cy="778320"/>
                <a:chOff x="3708360" y="3558960"/>
                <a:chExt cx="523800" cy="77832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3727440" y="391428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730680" y="35589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708360" y="397764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1" name=""/>
          <p:cNvGrpSpPr/>
          <p:nvPr/>
        </p:nvGrpSpPr>
        <p:grpSpPr>
          <a:xfrm>
            <a:off x="6012000" y="3544920"/>
            <a:ext cx="1090440" cy="778680"/>
            <a:chOff x="6012000" y="3544920"/>
            <a:chExt cx="1090440" cy="778680"/>
          </a:xfrm>
        </p:grpSpPr>
        <p:sp>
          <p:nvSpPr>
            <p:cNvPr id="672" name="Text Box 8"/>
            <p:cNvSpPr/>
            <p:nvPr/>
          </p:nvSpPr>
          <p:spPr>
            <a:xfrm>
              <a:off x="6012000" y="3776760"/>
              <a:ext cx="82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6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97720" y="39006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677280" y="35449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664320" y="39639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2508120" y="3544920"/>
            <a:ext cx="1093680" cy="768960"/>
            <a:chOff x="2508120" y="3544920"/>
            <a:chExt cx="1093680" cy="768960"/>
          </a:xfrm>
        </p:grpSpPr>
        <p:sp>
          <p:nvSpPr>
            <p:cNvPr id="677" name=""/>
            <p:cNvSpPr/>
            <p:nvPr/>
          </p:nvSpPr>
          <p:spPr>
            <a:xfrm>
              <a:off x="2508120" y="3751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928960" y="38908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922480" y="354492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941560" y="39672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4745160" y="3544920"/>
            <a:ext cx="906480" cy="778680"/>
            <a:chOff x="4745160" y="3544920"/>
            <a:chExt cx="906480" cy="778680"/>
          </a:xfrm>
        </p:grpSpPr>
        <p:sp>
          <p:nvSpPr>
            <p:cNvPr id="682" name=""/>
            <p:cNvSpPr/>
            <p:nvPr/>
          </p:nvSpPr>
          <p:spPr>
            <a:xfrm>
              <a:off x="5146920" y="39006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218200" y="35449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195880" y="396396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745160" y="37609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6996240" y="3544920"/>
            <a:ext cx="1093680" cy="768960"/>
            <a:chOff x="6996240" y="3544920"/>
            <a:chExt cx="1093680" cy="768960"/>
          </a:xfrm>
        </p:grpSpPr>
        <p:sp>
          <p:nvSpPr>
            <p:cNvPr id="687" name=""/>
            <p:cNvSpPr/>
            <p:nvPr/>
          </p:nvSpPr>
          <p:spPr>
            <a:xfrm>
              <a:off x="6996240" y="3751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417080" y="38908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410600" y="354492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29680" y="396720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457200" y="41580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二、巩固练习，提升认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1384200" y="1576440"/>
            <a:ext cx="324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计算下面各题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"/>
          <p:cNvSpPr/>
          <p:nvPr/>
        </p:nvSpPr>
        <p:spPr>
          <a:xfrm>
            <a:off x="1581120" y="4941720"/>
            <a:ext cx="626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说说你是怎样想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1504800" y="2502000"/>
            <a:ext cx="1263600" cy="797040"/>
            <a:chOff x="1504800" y="2502000"/>
            <a:chExt cx="1263600" cy="797040"/>
          </a:xfrm>
        </p:grpSpPr>
        <p:sp>
          <p:nvSpPr>
            <p:cNvPr id="695" name="Text Box 8"/>
            <p:cNvSpPr/>
            <p:nvPr/>
          </p:nvSpPr>
          <p:spPr>
            <a:xfrm>
              <a:off x="1849320" y="273348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2234880" y="2502000"/>
              <a:ext cx="533520" cy="778320"/>
              <a:chOff x="2234880" y="2502000"/>
              <a:chExt cx="533520" cy="778320"/>
            </a:xfrm>
          </p:grpSpPr>
          <p:sp>
            <p:nvSpPr>
              <p:cNvPr id="697" name=""/>
              <p:cNvSpPr/>
              <p:nvPr/>
            </p:nvSpPr>
            <p:spPr>
              <a:xfrm>
                <a:off x="2263320" y="285732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247480" y="2502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234880" y="2920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1504800" y="2520720"/>
              <a:ext cx="523800" cy="778320"/>
              <a:chOff x="1504800" y="2520720"/>
              <a:chExt cx="523800" cy="778320"/>
            </a:xfrm>
          </p:grpSpPr>
          <p:sp>
            <p:nvSpPr>
              <p:cNvPr id="701" name=""/>
              <p:cNvSpPr/>
              <p:nvPr/>
            </p:nvSpPr>
            <p:spPr>
              <a:xfrm>
                <a:off x="1523880" y="28760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527120" y="25207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504800" y="29394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4" name=""/>
          <p:cNvGrpSpPr/>
          <p:nvPr/>
        </p:nvGrpSpPr>
        <p:grpSpPr>
          <a:xfrm>
            <a:off x="3859200" y="2482920"/>
            <a:ext cx="1263600" cy="797760"/>
            <a:chOff x="3859200" y="2482920"/>
            <a:chExt cx="1263600" cy="797760"/>
          </a:xfrm>
        </p:grpSpPr>
        <p:sp>
          <p:nvSpPr>
            <p:cNvPr id="705" name="Text Box 8"/>
            <p:cNvSpPr/>
            <p:nvPr/>
          </p:nvSpPr>
          <p:spPr>
            <a:xfrm>
              <a:off x="4203720" y="271476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"/>
            <p:cNvGrpSpPr/>
            <p:nvPr/>
          </p:nvGrpSpPr>
          <p:grpSpPr>
            <a:xfrm>
              <a:off x="4589280" y="2482920"/>
              <a:ext cx="533520" cy="778680"/>
              <a:chOff x="4589280" y="2482920"/>
              <a:chExt cx="533520" cy="778680"/>
            </a:xfrm>
          </p:grpSpPr>
          <p:sp>
            <p:nvSpPr>
              <p:cNvPr id="707" name=""/>
              <p:cNvSpPr/>
              <p:nvPr/>
            </p:nvSpPr>
            <p:spPr>
              <a:xfrm>
                <a:off x="4617720" y="283860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01880" y="248292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589280" y="29019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3859200" y="2502000"/>
              <a:ext cx="523800" cy="778680"/>
              <a:chOff x="3859200" y="2502000"/>
              <a:chExt cx="523800" cy="778680"/>
            </a:xfrm>
          </p:grpSpPr>
          <p:sp>
            <p:nvSpPr>
              <p:cNvPr id="711" name=""/>
              <p:cNvSpPr/>
              <p:nvPr/>
            </p:nvSpPr>
            <p:spPr>
              <a:xfrm>
                <a:off x="3878280" y="285768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81520" y="250200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59200" y="2921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4" name=""/>
          <p:cNvGrpSpPr/>
          <p:nvPr/>
        </p:nvGrpSpPr>
        <p:grpSpPr>
          <a:xfrm>
            <a:off x="6078600" y="2459160"/>
            <a:ext cx="1263600" cy="797040"/>
            <a:chOff x="6078600" y="2459160"/>
            <a:chExt cx="1263600" cy="797040"/>
          </a:xfrm>
        </p:grpSpPr>
        <p:sp>
          <p:nvSpPr>
            <p:cNvPr id="715" name="Text Box 8"/>
            <p:cNvSpPr/>
            <p:nvPr/>
          </p:nvSpPr>
          <p:spPr>
            <a:xfrm>
              <a:off x="6423120" y="269064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6808680" y="2459160"/>
              <a:ext cx="533520" cy="778320"/>
              <a:chOff x="6808680" y="2459160"/>
              <a:chExt cx="533520" cy="778320"/>
            </a:xfrm>
          </p:grpSpPr>
          <p:sp>
            <p:nvSpPr>
              <p:cNvPr id="717" name=""/>
              <p:cNvSpPr/>
              <p:nvPr/>
            </p:nvSpPr>
            <p:spPr>
              <a:xfrm>
                <a:off x="6837120" y="281448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21280" y="24591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808680" y="2877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78600" y="2477880"/>
              <a:ext cx="523800" cy="778320"/>
              <a:chOff x="6078600" y="2477880"/>
              <a:chExt cx="523800" cy="7783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97680" y="28332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100920" y="24778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078600" y="2896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1438200" y="3722760"/>
            <a:ext cx="1216080" cy="788040"/>
            <a:chOff x="1438200" y="3722760"/>
            <a:chExt cx="1216080" cy="788040"/>
          </a:xfrm>
        </p:grpSpPr>
        <p:sp>
          <p:nvSpPr>
            <p:cNvPr id="725" name="Text Box 8"/>
            <p:cNvSpPr/>
            <p:nvPr/>
          </p:nvSpPr>
          <p:spPr>
            <a:xfrm>
              <a:off x="1830240" y="394488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149560" y="407844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228760" y="37227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16160" y="41418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438200" y="40878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08040" y="37321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485720" y="41515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3886200" y="3749760"/>
            <a:ext cx="1263600" cy="797040"/>
            <a:chOff x="3886200" y="3749760"/>
            <a:chExt cx="1263600" cy="797040"/>
          </a:xfrm>
        </p:grpSpPr>
        <p:sp>
          <p:nvSpPr>
            <p:cNvPr id="733" name="Text Box 8"/>
            <p:cNvSpPr/>
            <p:nvPr/>
          </p:nvSpPr>
          <p:spPr>
            <a:xfrm>
              <a:off x="4230720" y="398124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4" name=""/>
            <p:cNvGrpSpPr/>
            <p:nvPr/>
          </p:nvGrpSpPr>
          <p:grpSpPr>
            <a:xfrm>
              <a:off x="4616280" y="3749760"/>
              <a:ext cx="533520" cy="778320"/>
              <a:chOff x="4616280" y="3749760"/>
              <a:chExt cx="533520" cy="778320"/>
            </a:xfrm>
          </p:grpSpPr>
          <p:sp>
            <p:nvSpPr>
              <p:cNvPr id="735" name=""/>
              <p:cNvSpPr/>
              <p:nvPr/>
            </p:nvSpPr>
            <p:spPr>
              <a:xfrm>
                <a:off x="4644720" y="410508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628880" y="37497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616280" y="4168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"/>
            <p:cNvGrpSpPr/>
            <p:nvPr/>
          </p:nvGrpSpPr>
          <p:grpSpPr>
            <a:xfrm>
              <a:off x="3886200" y="3768480"/>
              <a:ext cx="523800" cy="778320"/>
              <a:chOff x="3886200" y="3768480"/>
              <a:chExt cx="523800" cy="778320"/>
            </a:xfrm>
          </p:grpSpPr>
          <p:sp>
            <p:nvSpPr>
              <p:cNvPr id="739" name=""/>
              <p:cNvSpPr/>
              <p:nvPr/>
            </p:nvSpPr>
            <p:spPr>
              <a:xfrm>
                <a:off x="3905280" y="41238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908520" y="3768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886200" y="4187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6097680" y="3740040"/>
            <a:ext cx="1301760" cy="788040"/>
            <a:chOff x="6097680" y="3740040"/>
            <a:chExt cx="1301760" cy="788040"/>
          </a:xfrm>
        </p:grpSpPr>
        <p:sp>
          <p:nvSpPr>
            <p:cNvPr id="743" name="Text Box 8"/>
            <p:cNvSpPr/>
            <p:nvPr/>
          </p:nvSpPr>
          <p:spPr>
            <a:xfrm>
              <a:off x="6480360" y="3971880"/>
              <a:ext cx="33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6865920" y="3740040"/>
              <a:ext cx="533520" cy="778680"/>
              <a:chOff x="6865920" y="3740040"/>
              <a:chExt cx="533520" cy="778680"/>
            </a:xfrm>
          </p:grpSpPr>
          <p:sp>
            <p:nvSpPr>
              <p:cNvPr id="745" name=""/>
              <p:cNvSpPr/>
              <p:nvPr/>
            </p:nvSpPr>
            <p:spPr>
              <a:xfrm>
                <a:off x="6894360" y="409572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878520" y="37400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6865920" y="4159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6097680" y="41050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58160" y="37494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135840" y="41781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903920" y="39704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2527200" y="2502000"/>
            <a:ext cx="906480" cy="778680"/>
            <a:chOff x="2527200" y="2502000"/>
            <a:chExt cx="906480" cy="778680"/>
          </a:xfrm>
        </p:grpSpPr>
        <p:sp>
          <p:nvSpPr>
            <p:cNvPr id="753" name=""/>
            <p:cNvSpPr/>
            <p:nvPr/>
          </p:nvSpPr>
          <p:spPr>
            <a:xfrm>
              <a:off x="2928960" y="2857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000240" y="2502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977920" y="292104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527200" y="27180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2513160" y="3727440"/>
            <a:ext cx="906480" cy="778680"/>
            <a:chOff x="2513160" y="3727440"/>
            <a:chExt cx="906480" cy="778680"/>
          </a:xfrm>
        </p:grpSpPr>
        <p:sp>
          <p:nvSpPr>
            <p:cNvPr id="758" name=""/>
            <p:cNvSpPr/>
            <p:nvPr/>
          </p:nvSpPr>
          <p:spPr>
            <a:xfrm>
              <a:off x="2914920" y="408312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2986200" y="37274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963880" y="414648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513160" y="39434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883040" y="2489040"/>
            <a:ext cx="1093680" cy="768960"/>
            <a:chOff x="4883040" y="2489040"/>
            <a:chExt cx="1093680" cy="768960"/>
          </a:xfrm>
        </p:grpSpPr>
        <p:sp>
          <p:nvSpPr>
            <p:cNvPr id="763" name=""/>
            <p:cNvSpPr/>
            <p:nvPr/>
          </p:nvSpPr>
          <p:spPr>
            <a:xfrm>
              <a:off x="4883040" y="2695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303880" y="283500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297400" y="248904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16480" y="291132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7093080" y="2421000"/>
            <a:ext cx="1093680" cy="768960"/>
            <a:chOff x="7093080" y="2421000"/>
            <a:chExt cx="1093680" cy="768960"/>
          </a:xfrm>
        </p:grpSpPr>
        <p:sp>
          <p:nvSpPr>
            <p:cNvPr id="768" name=""/>
            <p:cNvSpPr/>
            <p:nvPr/>
          </p:nvSpPr>
          <p:spPr>
            <a:xfrm>
              <a:off x="7093080" y="2627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13920" y="27669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507440" y="2421000"/>
              <a:ext cx="6793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526520" y="2843280"/>
              <a:ext cx="2872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169040" y="3741840"/>
            <a:ext cx="906480" cy="778320"/>
            <a:chOff x="7169040" y="3741840"/>
            <a:chExt cx="906480" cy="778320"/>
          </a:xfrm>
        </p:grpSpPr>
        <p:sp>
          <p:nvSpPr>
            <p:cNvPr id="773" name=""/>
            <p:cNvSpPr/>
            <p:nvPr/>
          </p:nvSpPr>
          <p:spPr>
            <a:xfrm>
              <a:off x="7570800" y="40971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642080" y="374184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19760" y="4160520"/>
              <a:ext cx="3603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69040" y="39574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三、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2"/>
          <p:cNvSpPr/>
          <p:nvPr/>
        </p:nvSpPr>
        <p:spPr>
          <a:xfrm>
            <a:off x="1104840" y="236232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练习一，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995640" y="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179280" y="4797360"/>
            <a:ext cx="7267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995400" y="5591160"/>
            <a:ext cx="76820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要求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桶水共重多少升”怎样列式？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你是怎样想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就是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倍是多少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2790720" y="198900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桶水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917800" y="3892680"/>
            <a:ext cx="278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桶共多少升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484200" y="189000"/>
            <a:ext cx="23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411280" y="2495520"/>
            <a:ext cx="2559240" cy="14382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63840" y="61117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-82440" y="3860640"/>
            <a:ext cx="7265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484200" y="189000"/>
            <a:ext cx="293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689040" y="5079960"/>
            <a:ext cx="81849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是根据什么列算式的？（每桶的体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桶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总体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03280" y="2133720"/>
            <a:ext cx="1011240" cy="179676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2790720" y="2530440"/>
            <a:ext cx="2971800" cy="788040"/>
            <a:chOff x="2790720" y="2530440"/>
            <a:chExt cx="2971800" cy="788040"/>
          </a:xfrm>
        </p:grpSpPr>
        <p:sp>
          <p:nvSpPr>
            <p:cNvPr id="59" name="Text Box 6"/>
            <p:cNvSpPr/>
            <p:nvPr/>
          </p:nvSpPr>
          <p:spPr>
            <a:xfrm>
              <a:off x="2975040" y="2759040"/>
              <a:ext cx="27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桶是多少升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2790720" y="2530440"/>
              <a:ext cx="365040" cy="788040"/>
              <a:chOff x="2790720" y="2530440"/>
              <a:chExt cx="365040" cy="788040"/>
            </a:xfrm>
          </p:grpSpPr>
          <p:sp>
            <p:nvSpPr>
              <p:cNvPr id="61" name=""/>
              <p:cNvSpPr/>
              <p:nvPr/>
            </p:nvSpPr>
            <p:spPr>
              <a:xfrm>
                <a:off x="2790720" y="2895480"/>
                <a:ext cx="287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795400" y="2530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830320" y="29592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698400" y="4264200"/>
            <a:ext cx="8185320" cy="801720"/>
            <a:chOff x="698400" y="4264200"/>
            <a:chExt cx="8185320" cy="801720"/>
          </a:xfrm>
        </p:grpSpPr>
        <p:sp>
          <p:nvSpPr>
            <p:cNvPr id="65" name="Rectangle 2"/>
            <p:cNvSpPr/>
            <p:nvPr/>
          </p:nvSpPr>
          <p:spPr>
            <a:xfrm>
              <a:off x="698400" y="4427280"/>
              <a:ext cx="81853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”怎样列式？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903320" y="4278240"/>
              <a:ext cx="2971800" cy="787680"/>
              <a:chOff x="1903320" y="4278240"/>
              <a:chExt cx="2971800" cy="787680"/>
            </a:xfrm>
          </p:grpSpPr>
          <p:sp>
            <p:nvSpPr>
              <p:cNvPr id="67" name="Text Box 6"/>
              <p:cNvSpPr/>
              <p:nvPr/>
            </p:nvSpPr>
            <p:spPr>
              <a:xfrm>
                <a:off x="2087640" y="4506480"/>
                <a:ext cx="2787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桶是多少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1903320" y="4278240"/>
                <a:ext cx="365040" cy="787680"/>
                <a:chOff x="1903320" y="4278240"/>
                <a:chExt cx="365040" cy="7876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903320" y="4642920"/>
                  <a:ext cx="287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908000" y="427824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1942920" y="470664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" name=""/>
            <p:cNvGrpSpPr/>
            <p:nvPr/>
          </p:nvGrpSpPr>
          <p:grpSpPr>
            <a:xfrm>
              <a:off x="5586840" y="4264200"/>
              <a:ext cx="680040" cy="787680"/>
              <a:chOff x="5586840" y="4264200"/>
              <a:chExt cx="680040" cy="787680"/>
            </a:xfrm>
          </p:grpSpPr>
          <p:sp>
            <p:nvSpPr>
              <p:cNvPr id="73" name="Text Box 15"/>
              <p:cNvSpPr/>
              <p:nvPr/>
            </p:nvSpPr>
            <p:spPr>
              <a:xfrm>
                <a:off x="5586840" y="450180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5901840" y="4264200"/>
                <a:ext cx="365040" cy="787680"/>
                <a:chOff x="5901840" y="4264200"/>
                <a:chExt cx="365040" cy="7876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5901840" y="4628880"/>
                  <a:ext cx="287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906520" y="426420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941440" y="469260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" name=""/>
          <p:cNvGrpSpPr/>
          <p:nvPr/>
        </p:nvGrpSpPr>
        <p:grpSpPr>
          <a:xfrm>
            <a:off x="692280" y="5651640"/>
            <a:ext cx="9204120" cy="788040"/>
            <a:chOff x="692280" y="5651640"/>
            <a:chExt cx="9204120" cy="788040"/>
          </a:xfrm>
        </p:grpSpPr>
        <p:sp>
          <p:nvSpPr>
            <p:cNvPr id="79" name="Rectangle 2"/>
            <p:cNvSpPr/>
            <p:nvPr/>
          </p:nvSpPr>
          <p:spPr>
            <a:xfrm>
              <a:off x="692280" y="5801040"/>
              <a:ext cx="9204120" cy="57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表示求半桶水的体积，就是求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一半，也就是求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         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966600" y="5651640"/>
              <a:ext cx="1037160" cy="788040"/>
              <a:chOff x="966600" y="5651640"/>
              <a:chExt cx="1037160" cy="788040"/>
            </a:xfrm>
          </p:grpSpPr>
          <p:sp>
            <p:nvSpPr>
              <p:cNvPr id="81" name="Rectangle 2"/>
              <p:cNvSpPr/>
              <p:nvPr/>
            </p:nvSpPr>
            <p:spPr>
              <a:xfrm>
                <a:off x="966600" y="5805720"/>
                <a:ext cx="502920" cy="57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1323720" y="5651640"/>
                <a:ext cx="680040" cy="788040"/>
                <a:chOff x="1323720" y="5651640"/>
                <a:chExt cx="680040" cy="788040"/>
              </a:xfrm>
            </p:grpSpPr>
            <p:sp>
              <p:nvSpPr>
                <p:cNvPr id="83" name="Text Box 15"/>
                <p:cNvSpPr/>
                <p:nvPr/>
              </p:nvSpPr>
              <p:spPr>
                <a:xfrm>
                  <a:off x="1323720" y="5889600"/>
                  <a:ext cx="330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楷体_GB2312"/>
                    </a:rPr>
                    <a:t>×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" name=""/>
                <p:cNvGrpSpPr/>
                <p:nvPr/>
              </p:nvGrpSpPr>
              <p:grpSpPr>
                <a:xfrm>
                  <a:off x="1638720" y="5651640"/>
                  <a:ext cx="365040" cy="788040"/>
                  <a:chOff x="1638720" y="5651640"/>
                  <a:chExt cx="365040" cy="788040"/>
                </a:xfrm>
              </p:grpSpPr>
              <p:sp>
                <p:nvSpPr>
                  <p:cNvPr id="85" name=""/>
                  <p:cNvSpPr/>
                  <p:nvPr/>
                </p:nvSpPr>
                <p:spPr>
                  <a:xfrm>
                    <a:off x="1638720" y="6016680"/>
                    <a:ext cx="2872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1643400" y="565164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1678320" y="608040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8" name=""/>
            <p:cNvGrpSpPr/>
            <p:nvPr/>
          </p:nvGrpSpPr>
          <p:grpSpPr>
            <a:xfrm>
              <a:off x="8364240" y="5670720"/>
              <a:ext cx="936360" cy="740520"/>
              <a:chOff x="8364240" y="5670720"/>
              <a:chExt cx="936360" cy="740520"/>
            </a:xfrm>
          </p:grpSpPr>
          <p:sp>
            <p:nvSpPr>
              <p:cNvPr id="89" name=""/>
              <p:cNvSpPr/>
              <p:nvPr/>
            </p:nvSpPr>
            <p:spPr>
              <a:xfrm>
                <a:off x="8364240" y="5988240"/>
                <a:ext cx="936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370360" y="5670720"/>
                <a:ext cx="8582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  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519400" y="6080400"/>
                <a:ext cx="53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79280" y="3789360"/>
            <a:ext cx="72676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958680" y="5805360"/>
            <a:ext cx="81853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观察比较上面两个算式表示的意思有什么相同之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08080" y="623088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结：一个数乘几分之几表示的是求这个数的几分之几是多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484200" y="189000"/>
            <a:ext cx="307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403280" y="2060640"/>
            <a:ext cx="1014480" cy="180000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2790720" y="2530440"/>
            <a:ext cx="2971800" cy="788040"/>
            <a:chOff x="2790720" y="2530440"/>
            <a:chExt cx="2971800" cy="788040"/>
          </a:xfrm>
        </p:grpSpPr>
        <p:sp>
          <p:nvSpPr>
            <p:cNvPr id="100" name="Text Box 6"/>
            <p:cNvSpPr/>
            <p:nvPr/>
          </p:nvSpPr>
          <p:spPr>
            <a:xfrm>
              <a:off x="2975040" y="2759040"/>
              <a:ext cx="278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桶是多少升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2790720" y="2530440"/>
              <a:ext cx="365040" cy="788040"/>
              <a:chOff x="2790720" y="2530440"/>
              <a:chExt cx="365040" cy="788040"/>
            </a:xfrm>
          </p:grpSpPr>
          <p:sp>
            <p:nvSpPr>
              <p:cNvPr id="102" name=""/>
              <p:cNvSpPr/>
              <p:nvPr/>
            </p:nvSpPr>
            <p:spPr>
              <a:xfrm>
                <a:off x="2790720" y="2895480"/>
                <a:ext cx="287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795400" y="2530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830320" y="295920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971640" y="4121280"/>
            <a:ext cx="8184960" cy="802440"/>
            <a:chOff x="971640" y="4121280"/>
            <a:chExt cx="8184960" cy="802440"/>
          </a:xfrm>
        </p:grpSpPr>
        <p:sp>
          <p:nvSpPr>
            <p:cNvPr id="106" name="Rectangle 2"/>
            <p:cNvSpPr/>
            <p:nvPr/>
          </p:nvSpPr>
          <p:spPr>
            <a:xfrm>
              <a:off x="971640" y="4284720"/>
              <a:ext cx="818496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“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      ”怎样列式？（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2176200" y="4135680"/>
              <a:ext cx="2971080" cy="788040"/>
              <a:chOff x="2176200" y="4135680"/>
              <a:chExt cx="2971080" cy="788040"/>
            </a:xfrm>
          </p:grpSpPr>
          <p:sp>
            <p:nvSpPr>
              <p:cNvPr id="108" name="Text Box 6"/>
              <p:cNvSpPr/>
              <p:nvPr/>
            </p:nvSpPr>
            <p:spPr>
              <a:xfrm>
                <a:off x="2360160" y="4364280"/>
                <a:ext cx="278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桶是多少升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2176200" y="4135680"/>
                <a:ext cx="364320" cy="788040"/>
                <a:chOff x="2176200" y="4135680"/>
                <a:chExt cx="364320" cy="7880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176200" y="4500720"/>
                  <a:ext cx="2869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180520" y="413568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215440" y="4564440"/>
                  <a:ext cx="252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" name=""/>
            <p:cNvGrpSpPr/>
            <p:nvPr/>
          </p:nvGrpSpPr>
          <p:grpSpPr>
            <a:xfrm>
              <a:off x="5859720" y="4121280"/>
              <a:ext cx="679680" cy="788040"/>
              <a:chOff x="5859720" y="4121280"/>
              <a:chExt cx="679680" cy="788040"/>
            </a:xfrm>
          </p:grpSpPr>
          <p:sp>
            <p:nvSpPr>
              <p:cNvPr id="114" name="Text Box 15"/>
              <p:cNvSpPr/>
              <p:nvPr/>
            </p:nvSpPr>
            <p:spPr>
              <a:xfrm>
                <a:off x="5859720" y="4359240"/>
                <a:ext cx="330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×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" name=""/>
              <p:cNvGrpSpPr/>
              <p:nvPr/>
            </p:nvGrpSpPr>
            <p:grpSpPr>
              <a:xfrm>
                <a:off x="6174360" y="4121280"/>
                <a:ext cx="365040" cy="788040"/>
                <a:chOff x="6174360" y="4121280"/>
                <a:chExt cx="365040" cy="78804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174360" y="4486320"/>
                  <a:ext cx="2872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179040" y="41212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213960" y="4550040"/>
                  <a:ext cx="252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" name="Rectangle 2"/>
          <p:cNvSpPr/>
          <p:nvPr/>
        </p:nvSpPr>
        <p:spPr>
          <a:xfrm>
            <a:off x="961920" y="4797360"/>
            <a:ext cx="81853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是根据什么列算式的？（每桶的体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桶数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总体积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61920" y="5156280"/>
            <a:ext cx="8172360" cy="797040"/>
            <a:chOff x="961920" y="5156280"/>
            <a:chExt cx="8172360" cy="797040"/>
          </a:xfrm>
        </p:grpSpPr>
        <p:grpSp>
          <p:nvGrpSpPr>
            <p:cNvPr id="121" name=""/>
            <p:cNvGrpSpPr/>
            <p:nvPr/>
          </p:nvGrpSpPr>
          <p:grpSpPr>
            <a:xfrm>
              <a:off x="961920" y="5156280"/>
              <a:ext cx="8172360" cy="790560"/>
              <a:chOff x="961920" y="5156280"/>
              <a:chExt cx="8172360" cy="7905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236600" y="5159160"/>
                <a:ext cx="1035360" cy="787680"/>
                <a:chOff x="1236600" y="5159160"/>
                <a:chExt cx="1035360" cy="787680"/>
              </a:xfrm>
            </p:grpSpPr>
            <p:sp>
              <p:nvSpPr>
                <p:cNvPr id="123" name="Rectangle 2"/>
                <p:cNvSpPr/>
                <p:nvPr/>
              </p:nvSpPr>
              <p:spPr>
                <a:xfrm>
                  <a:off x="1236600" y="5312880"/>
                  <a:ext cx="50220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" name=""/>
                <p:cNvGrpSpPr/>
                <p:nvPr/>
              </p:nvGrpSpPr>
              <p:grpSpPr>
                <a:xfrm>
                  <a:off x="1593000" y="5159160"/>
                  <a:ext cx="678960" cy="787680"/>
                  <a:chOff x="1593000" y="5159160"/>
                  <a:chExt cx="678960" cy="787680"/>
                </a:xfrm>
              </p:grpSpPr>
              <p:sp>
                <p:nvSpPr>
                  <p:cNvPr id="125" name="Text Box 15"/>
                  <p:cNvSpPr/>
                  <p:nvPr/>
                </p:nvSpPr>
                <p:spPr>
                  <a:xfrm>
                    <a:off x="1593000" y="5396760"/>
                    <a:ext cx="3301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Arial"/>
                        <a:ea typeface="楷体_GB2312"/>
                      </a:rPr>
                      <a:t>×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6" name=""/>
                  <p:cNvGrpSpPr/>
                  <p:nvPr/>
                </p:nvGrpSpPr>
                <p:grpSpPr>
                  <a:xfrm>
                    <a:off x="1907640" y="5159160"/>
                    <a:ext cx="364320" cy="787680"/>
                    <a:chOff x="1907640" y="5159160"/>
                    <a:chExt cx="364320" cy="787680"/>
                  </a:xfrm>
                </p:grpSpPr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1907640" y="5523840"/>
                      <a:ext cx="2869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"/>
                    <p:cNvSpPr/>
                    <p:nvPr/>
                  </p:nvSpPr>
                  <p:spPr>
                    <a:xfrm>
                      <a:off x="1911960" y="5159160"/>
                      <a:ext cx="36000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1946880" y="5587560"/>
                      <a:ext cx="2520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30" name=""/>
              <p:cNvGrpSpPr/>
              <p:nvPr/>
            </p:nvGrpSpPr>
            <p:grpSpPr>
              <a:xfrm>
                <a:off x="961920" y="5156280"/>
                <a:ext cx="8172360" cy="740160"/>
                <a:chOff x="961920" y="5156280"/>
                <a:chExt cx="8172360" cy="740160"/>
              </a:xfrm>
            </p:grpSpPr>
            <p:sp>
              <p:nvSpPr>
                <p:cNvPr id="131" name="Rectangle 2"/>
                <p:cNvSpPr/>
                <p:nvPr/>
              </p:nvSpPr>
              <p:spPr>
                <a:xfrm>
                  <a:off x="961920" y="5298840"/>
                  <a:ext cx="8172360" cy="57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.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    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         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表示求    桶水的体积，就是求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L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的         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" name=""/>
                <p:cNvGrpSpPr/>
                <p:nvPr/>
              </p:nvGrpSpPr>
              <p:grpSpPr>
                <a:xfrm>
                  <a:off x="6191280" y="5156280"/>
                  <a:ext cx="934920" cy="740160"/>
                  <a:chOff x="6191280" y="5156280"/>
                  <a:chExt cx="934920" cy="740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6191280" y="5156280"/>
                    <a:ext cx="934920" cy="740160"/>
                    <a:chOff x="6191280" y="5156280"/>
                    <a:chExt cx="934920" cy="74016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6191280" y="5473440"/>
                      <a:ext cx="93492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6197760" y="5156280"/>
                      <a:ext cx="857160" cy="423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（  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" name=""/>
                  <p:cNvSpPr/>
                  <p:nvPr/>
                </p:nvSpPr>
                <p:spPr>
                  <a:xfrm>
                    <a:off x="6354720" y="5587560"/>
                    <a:ext cx="540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7" name=""/>
            <p:cNvGrpSpPr/>
            <p:nvPr/>
          </p:nvGrpSpPr>
          <p:grpSpPr>
            <a:xfrm>
              <a:off x="2975040" y="5165280"/>
              <a:ext cx="365040" cy="788040"/>
              <a:chOff x="2975040" y="5165280"/>
              <a:chExt cx="365040" cy="7880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75040" y="5530320"/>
                <a:ext cx="2872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979720" y="5165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14640" y="55940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巩固练习 提升认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403280" y="2230560"/>
            <a:ext cx="64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袋面粉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kg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已经吃了它的      ，吃了多少千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84200" y="189000"/>
            <a:ext cx="35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005440" y="1989000"/>
            <a:ext cx="504720" cy="778680"/>
            <a:chOff x="5005440" y="1989000"/>
            <a:chExt cx="504720" cy="778680"/>
          </a:xfrm>
        </p:grpSpPr>
        <p:sp>
          <p:nvSpPr>
            <p:cNvPr id="146" name=""/>
            <p:cNvSpPr/>
            <p:nvPr/>
          </p:nvSpPr>
          <p:spPr>
            <a:xfrm>
              <a:off x="5005440" y="23446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720" y="198900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54760" y="24080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84360" y="3265560"/>
            <a:ext cx="6551640" cy="1119600"/>
            <a:chOff x="684360" y="3265560"/>
            <a:chExt cx="6551640" cy="1119600"/>
          </a:xfrm>
        </p:grpSpPr>
        <p:sp>
          <p:nvSpPr>
            <p:cNvPr id="150" name="Text Box 6"/>
            <p:cNvSpPr/>
            <p:nvPr/>
          </p:nvSpPr>
          <p:spPr>
            <a:xfrm>
              <a:off x="684360" y="3376800"/>
              <a:ext cx="6551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问题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理解“已经吃了它的      ”这句话的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把一袋面粉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吃了的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151600" y="3265560"/>
              <a:ext cx="504720" cy="778680"/>
              <a:chOff x="5151600" y="3265560"/>
              <a:chExt cx="504720" cy="778680"/>
            </a:xfrm>
          </p:grpSpPr>
          <p:sp>
            <p:nvSpPr>
              <p:cNvPr id="152" name=""/>
              <p:cNvSpPr/>
              <p:nvPr/>
            </p:nvSpPr>
            <p:spPr>
              <a:xfrm>
                <a:off x="5151600" y="362124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222880" y="326556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200920" y="3684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116000" y="4292640"/>
            <a:ext cx="6840360" cy="778680"/>
            <a:chOff x="1116000" y="4292640"/>
            <a:chExt cx="6840360" cy="778680"/>
          </a:xfrm>
        </p:grpSpPr>
        <p:sp>
          <p:nvSpPr>
            <p:cNvPr id="156" name="Text Box 12"/>
            <p:cNvSpPr/>
            <p:nvPr/>
          </p:nvSpPr>
          <p:spPr>
            <a:xfrm>
              <a:off x="1116000" y="4522680"/>
              <a:ext cx="68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要求吃了多少千克，请你列出算式。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(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6481800" y="4292640"/>
              <a:ext cx="504720" cy="778680"/>
              <a:chOff x="6481800" y="4292640"/>
              <a:chExt cx="504720" cy="778680"/>
            </a:xfrm>
          </p:grpSpPr>
          <p:sp>
            <p:nvSpPr>
              <p:cNvPr id="158" name=""/>
              <p:cNvSpPr/>
              <p:nvPr/>
            </p:nvSpPr>
            <p:spPr>
              <a:xfrm>
                <a:off x="6481800" y="4648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553080" y="4292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531120" y="4711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1239840" y="4897440"/>
            <a:ext cx="7126200" cy="778680"/>
            <a:chOff x="1239840" y="4897440"/>
            <a:chExt cx="7126200" cy="778680"/>
          </a:xfrm>
        </p:grpSpPr>
        <p:sp>
          <p:nvSpPr>
            <p:cNvPr id="162" name="Text Box 8"/>
            <p:cNvSpPr/>
            <p:nvPr/>
          </p:nvSpPr>
          <p:spPr>
            <a:xfrm>
              <a:off x="1239840" y="5106960"/>
              <a:ext cx="7126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根据什么列出算式的？（求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g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      是多少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059520" y="4897440"/>
              <a:ext cx="504720" cy="778680"/>
              <a:chOff x="6059520" y="4897440"/>
              <a:chExt cx="504720" cy="778680"/>
            </a:xfrm>
          </p:grpSpPr>
          <p:sp>
            <p:nvSpPr>
              <p:cNvPr id="164" name=""/>
              <p:cNvSpPr/>
              <p:nvPr/>
            </p:nvSpPr>
            <p:spPr>
              <a:xfrm>
                <a:off x="6059520" y="52531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130800" y="48974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08840" y="5316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79280" y="5375160"/>
            <a:ext cx="72676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知道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一）出示信息，明确问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966960" y="5932440"/>
            <a:ext cx="8184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2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你是怎样理解“种土豆的面积占这块地的      ”这句话的意思的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把这块地平均分成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，种土豆的面积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份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332000" y="2205000"/>
            <a:ext cx="42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李伯伯家有一块      公顷的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1260360" y="4005360"/>
            <a:ext cx="473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种土豆的面积是多少公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种玉米的面积是多少公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84200" y="189000"/>
            <a:ext cx="36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1044720" y="5051520"/>
            <a:ext cx="62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决问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种土豆的面积是多少公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718320" y="2325600"/>
            <a:ext cx="117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2268360" y="2787480"/>
            <a:ext cx="4103640" cy="1248480"/>
            <a:chOff x="2268360" y="2787480"/>
            <a:chExt cx="4103640" cy="1248480"/>
          </a:xfrm>
        </p:grpSpPr>
        <p:sp>
          <p:nvSpPr>
            <p:cNvPr id="177" name="AutoShape 27"/>
            <p:cNvSpPr/>
            <p:nvPr/>
          </p:nvSpPr>
          <p:spPr>
            <a:xfrm>
              <a:off x="2268360" y="2854080"/>
              <a:ext cx="4103640" cy="1152720"/>
            </a:xfrm>
            <a:prstGeom prst="wedgeRoundRectCallout">
              <a:avLst>
                <a:gd name="adj1" fmla="val 57504"/>
                <a:gd name="adj2" fmla="val -8402"/>
                <a:gd name="adj3" fmla="val 16667"/>
              </a:avLst>
            </a:prstGeom>
            <a:noFill/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种土豆的面积占这块地的    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种玉米的面积占  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387760" y="2787480"/>
              <a:ext cx="533520" cy="778680"/>
              <a:chOff x="5387760" y="2787480"/>
              <a:chExt cx="533520" cy="778680"/>
            </a:xfrm>
          </p:grpSpPr>
          <p:sp>
            <p:nvSpPr>
              <p:cNvPr id="179" name=""/>
              <p:cNvSpPr/>
              <p:nvPr/>
            </p:nvSpPr>
            <p:spPr>
              <a:xfrm>
                <a:off x="5416200" y="31431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400360" y="27874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387760" y="32065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360680" y="3257280"/>
              <a:ext cx="533520" cy="778680"/>
              <a:chOff x="4360680" y="3257280"/>
              <a:chExt cx="533520" cy="778680"/>
            </a:xfrm>
          </p:grpSpPr>
          <p:sp>
            <p:nvSpPr>
              <p:cNvPr id="183" name=""/>
              <p:cNvSpPr/>
              <p:nvPr/>
            </p:nvSpPr>
            <p:spPr>
              <a:xfrm>
                <a:off x="4389120" y="36129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373280" y="32572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360680" y="3676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3286080" y="1984320"/>
            <a:ext cx="533520" cy="778680"/>
            <a:chOff x="3286080" y="1984320"/>
            <a:chExt cx="533520" cy="778680"/>
          </a:xfrm>
        </p:grpSpPr>
        <p:sp>
          <p:nvSpPr>
            <p:cNvPr id="187" name=""/>
            <p:cNvSpPr/>
            <p:nvPr/>
          </p:nvSpPr>
          <p:spPr>
            <a:xfrm>
              <a:off x="3314520" y="234000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98680" y="198432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86080" y="24033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977080" y="5626080"/>
            <a:ext cx="532800" cy="778680"/>
            <a:chOff x="5977080" y="5626080"/>
            <a:chExt cx="532800" cy="778680"/>
          </a:xfrm>
        </p:grpSpPr>
        <p:sp>
          <p:nvSpPr>
            <p:cNvPr id="191" name=""/>
            <p:cNvSpPr/>
            <p:nvPr/>
          </p:nvSpPr>
          <p:spPr>
            <a:xfrm>
              <a:off x="6005160" y="598176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89320" y="562608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77080" y="604512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117440" y="1917720"/>
            <a:ext cx="7128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列式呢？你是怎样想到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262160" y="2563920"/>
            <a:ext cx="69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求       公顷的       是多少，可以用                   表示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484200" y="189000"/>
            <a:ext cx="34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1450800" y="5510160"/>
            <a:ext cx="116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预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3"/>
          <p:cNvSpPr/>
          <p:nvPr/>
        </p:nvSpPr>
        <p:spPr>
          <a:xfrm>
            <a:off x="1177920" y="4807080"/>
            <a:ext cx="6840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请你写出计算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1936800" y="2349360"/>
            <a:ext cx="533520" cy="778680"/>
            <a:chOff x="1936800" y="2349360"/>
            <a:chExt cx="533520" cy="778680"/>
          </a:xfrm>
        </p:grpSpPr>
        <p:sp>
          <p:nvSpPr>
            <p:cNvPr id="202" name=""/>
            <p:cNvSpPr/>
            <p:nvPr/>
          </p:nvSpPr>
          <p:spPr>
            <a:xfrm>
              <a:off x="1965240" y="2705040"/>
              <a:ext cx="50508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49400" y="2349360"/>
              <a:ext cx="360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36800" y="276840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195720" y="2352600"/>
            <a:ext cx="532800" cy="778680"/>
            <a:chOff x="3195720" y="2352600"/>
            <a:chExt cx="532800" cy="778680"/>
          </a:xfrm>
        </p:grpSpPr>
        <p:sp>
          <p:nvSpPr>
            <p:cNvPr id="206" name=""/>
            <p:cNvSpPr/>
            <p:nvPr/>
          </p:nvSpPr>
          <p:spPr>
            <a:xfrm>
              <a:off x="3223800" y="2708280"/>
              <a:ext cx="5047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07960" y="2352600"/>
              <a:ext cx="360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195720" y="27716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5516640" y="2343240"/>
            <a:ext cx="1325520" cy="778680"/>
            <a:chOff x="5516640" y="2343240"/>
            <a:chExt cx="1325520" cy="778680"/>
          </a:xfrm>
        </p:grpSpPr>
        <p:grpSp>
          <p:nvGrpSpPr>
            <p:cNvPr id="210" name=""/>
            <p:cNvGrpSpPr/>
            <p:nvPr/>
          </p:nvGrpSpPr>
          <p:grpSpPr>
            <a:xfrm>
              <a:off x="5516640" y="2343240"/>
              <a:ext cx="533520" cy="778680"/>
              <a:chOff x="5516640" y="2343240"/>
              <a:chExt cx="533520" cy="778680"/>
            </a:xfrm>
          </p:grpSpPr>
          <p:sp>
            <p:nvSpPr>
              <p:cNvPr id="211" name=""/>
              <p:cNvSpPr/>
              <p:nvPr/>
            </p:nvSpPr>
            <p:spPr>
              <a:xfrm>
                <a:off x="5545080" y="269892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29240" y="2343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516640" y="27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308640" y="2343240"/>
              <a:ext cx="533520" cy="778680"/>
              <a:chOff x="6308640" y="2343240"/>
              <a:chExt cx="533520" cy="7786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37080" y="269892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21240" y="23432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308640" y="27622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857920" y="25844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117440" y="2895480"/>
            <a:ext cx="7775640" cy="1427760"/>
            <a:chOff x="1117440" y="2895480"/>
            <a:chExt cx="7775640" cy="1427760"/>
          </a:xfrm>
        </p:grpSpPr>
        <p:sp>
          <p:nvSpPr>
            <p:cNvPr id="220" name="Text Box 18"/>
            <p:cNvSpPr/>
            <p:nvPr/>
          </p:nvSpPr>
          <p:spPr>
            <a:xfrm>
              <a:off x="1117440" y="3009960"/>
              <a:ext cx="7775640" cy="13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你用一张纸动手折一折、画一画，用阴影表示出    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意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7188120" y="2895480"/>
              <a:ext cx="1325520" cy="778680"/>
              <a:chOff x="7188120" y="2895480"/>
              <a:chExt cx="1325520" cy="77868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7188120" y="2895480"/>
                <a:ext cx="533520" cy="778680"/>
                <a:chOff x="7188120" y="2895480"/>
                <a:chExt cx="533520" cy="7786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7216560" y="325116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7200720" y="28954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188120" y="3314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7980120" y="2895480"/>
                <a:ext cx="533520" cy="778680"/>
                <a:chOff x="7980120" y="2895480"/>
                <a:chExt cx="533520" cy="7786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8008560" y="325116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992720" y="289548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980120" y="331452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7529400" y="313668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1" name=""/>
          <p:cNvGrpSpPr/>
          <p:nvPr/>
        </p:nvGrpSpPr>
        <p:grpSpPr>
          <a:xfrm>
            <a:off x="1900080" y="3516480"/>
            <a:ext cx="6245280" cy="1306440"/>
            <a:chOff x="1900080" y="3516480"/>
            <a:chExt cx="6245280" cy="1306440"/>
          </a:xfrm>
        </p:grpSpPr>
        <p:grpSp>
          <p:nvGrpSpPr>
            <p:cNvPr id="232" name=""/>
            <p:cNvGrpSpPr/>
            <p:nvPr/>
          </p:nvGrpSpPr>
          <p:grpSpPr>
            <a:xfrm>
              <a:off x="1900080" y="3516480"/>
              <a:ext cx="6245280" cy="1306440"/>
              <a:chOff x="1900080" y="3516480"/>
              <a:chExt cx="6245280" cy="1306440"/>
            </a:xfrm>
          </p:grpSpPr>
          <p:pic>
            <p:nvPicPr>
              <p:cNvPr id="23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57200" y="3743640"/>
                <a:ext cx="5888160" cy="1079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4" name=""/>
              <p:cNvGrpSpPr/>
              <p:nvPr/>
            </p:nvGrpSpPr>
            <p:grpSpPr>
              <a:xfrm>
                <a:off x="1900080" y="3516480"/>
                <a:ext cx="3936960" cy="1131840"/>
                <a:chOff x="1900080" y="3516480"/>
                <a:chExt cx="3936960" cy="113184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1900080" y="3983040"/>
                  <a:ext cx="1028880" cy="665280"/>
                  <a:chOff x="1900080" y="3983040"/>
                  <a:chExt cx="1028880" cy="66528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1906560" y="4262400"/>
                    <a:ext cx="5047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1900080" y="3983040"/>
                    <a:ext cx="3603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1950840" y="43261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136600" y="4132440"/>
                    <a:ext cx="7923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1600" spc="-1" strike="noStrike">
                        <a:solidFill>
                          <a:srgbClr val="000000"/>
                        </a:solidFill>
                        <a:latin typeface="宋体"/>
                        <a:ea typeface="宋体"/>
                      </a:rPr>
                      <a:t>公顷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4384440" y="3525840"/>
                  <a:ext cx="511200" cy="665280"/>
                  <a:chOff x="4384440" y="3525840"/>
                  <a:chExt cx="511200" cy="665280"/>
                </a:xfrm>
              </p:grpSpPr>
              <p:sp>
                <p:nvSpPr>
                  <p:cNvPr id="241" name=""/>
                  <p:cNvSpPr/>
                  <p:nvPr/>
                </p:nvSpPr>
                <p:spPr>
                  <a:xfrm>
                    <a:off x="4390920" y="3805200"/>
                    <a:ext cx="5047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384440" y="3525840"/>
                    <a:ext cx="3603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435200" y="386892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4" name=""/>
                <p:cNvSpPr/>
                <p:nvPr/>
              </p:nvSpPr>
              <p:spPr>
                <a:xfrm>
                  <a:off x="4601880" y="3675240"/>
                  <a:ext cx="916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公顷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"/>
                <p:cNvGrpSpPr/>
                <p:nvPr/>
              </p:nvGrpSpPr>
              <p:grpSpPr>
                <a:xfrm>
                  <a:off x="5325840" y="3516480"/>
                  <a:ext cx="511200" cy="665280"/>
                  <a:chOff x="5325840" y="3516480"/>
                  <a:chExt cx="511200" cy="66528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5332320" y="3795840"/>
                    <a:ext cx="5047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5325840" y="3516480"/>
                    <a:ext cx="3603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5376600" y="385956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9" name=""/>
              <p:cNvSpPr/>
              <p:nvPr/>
            </p:nvSpPr>
            <p:spPr>
              <a:xfrm>
                <a:off x="6360840" y="3708720"/>
                <a:ext cx="10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？公顷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2684160" y="4135680"/>
              <a:ext cx="144720" cy="32364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8280 h 323640"/>
                <a:gd name="textAreaBottom" fmla="*/ 315360 h 32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2327400" y="5300640"/>
            <a:ext cx="4006800" cy="799200"/>
            <a:chOff x="2327400" y="5300640"/>
            <a:chExt cx="4006800" cy="799200"/>
          </a:xfrm>
        </p:grpSpPr>
        <p:grpSp>
          <p:nvGrpSpPr>
            <p:cNvPr id="252" name=""/>
            <p:cNvGrpSpPr/>
            <p:nvPr/>
          </p:nvGrpSpPr>
          <p:grpSpPr>
            <a:xfrm>
              <a:off x="2327400" y="5321160"/>
              <a:ext cx="1325520" cy="778680"/>
              <a:chOff x="2327400" y="5321160"/>
              <a:chExt cx="1325520" cy="77868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2327400" y="5321160"/>
                <a:ext cx="533520" cy="778680"/>
                <a:chOff x="2327400" y="5321160"/>
                <a:chExt cx="533520" cy="7786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2355840" y="567684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340000" y="5321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327400" y="5740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3119400" y="5321160"/>
                <a:ext cx="533520" cy="778680"/>
                <a:chOff x="3119400" y="5321160"/>
                <a:chExt cx="533520" cy="7786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147840" y="567684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132000" y="53211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119400" y="57402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2668680" y="55623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3457800" y="5527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"/>
            <p:cNvGrpSpPr/>
            <p:nvPr/>
          </p:nvGrpSpPr>
          <p:grpSpPr>
            <a:xfrm>
              <a:off x="3821400" y="5310000"/>
              <a:ext cx="850680" cy="778680"/>
              <a:chOff x="3821400" y="5310000"/>
              <a:chExt cx="850680" cy="778680"/>
            </a:xfrm>
          </p:grpSpPr>
          <p:sp>
            <p:nvSpPr>
              <p:cNvPr id="264" name=""/>
              <p:cNvSpPr/>
              <p:nvPr/>
            </p:nvSpPr>
            <p:spPr>
              <a:xfrm>
                <a:off x="3836880" y="5665680"/>
                <a:ext cx="834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821400" y="5310000"/>
                <a:ext cx="850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836880" y="5729040"/>
                <a:ext cx="718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799160" y="5300640"/>
              <a:ext cx="504720" cy="778680"/>
              <a:chOff x="4799160" y="5300640"/>
              <a:chExt cx="504720" cy="778680"/>
            </a:xfrm>
          </p:grpSpPr>
          <p:sp>
            <p:nvSpPr>
              <p:cNvPr id="268" name=""/>
              <p:cNvSpPr/>
              <p:nvPr/>
            </p:nvSpPr>
            <p:spPr>
              <a:xfrm>
                <a:off x="4799160" y="565632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69000" y="530064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6400" y="57196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4497480" y="552780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08760" y="55278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公顷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276720" y="5300640"/>
            <a:ext cx="2493720" cy="12603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484200" y="18900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828720" y="2025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决问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种玉米的面积是多少公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39880" y="2332080"/>
            <a:ext cx="7345440" cy="1117800"/>
            <a:chOff x="839880" y="2332080"/>
            <a:chExt cx="7345440" cy="1117800"/>
          </a:xfrm>
        </p:grpSpPr>
        <p:sp>
          <p:nvSpPr>
            <p:cNvPr id="279" name="Text Box 12"/>
            <p:cNvSpPr/>
            <p:nvPr/>
          </p:nvSpPr>
          <p:spPr>
            <a:xfrm>
              <a:off x="839880" y="2441520"/>
              <a:ext cx="7345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你是怎样理解“种玉米的面积占      ”这句话？（把这块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平均分成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，种玉米的面积占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份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4822920" y="2332080"/>
              <a:ext cx="533520" cy="778680"/>
              <a:chOff x="4822920" y="2332080"/>
              <a:chExt cx="533520" cy="778680"/>
            </a:xfrm>
          </p:grpSpPr>
          <p:sp>
            <p:nvSpPr>
              <p:cNvPr id="281" name=""/>
              <p:cNvSpPr/>
              <p:nvPr/>
            </p:nvSpPr>
            <p:spPr>
              <a:xfrm>
                <a:off x="4851360" y="2687760"/>
                <a:ext cx="5050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835520" y="2332080"/>
                <a:ext cx="360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822920" y="2751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839880" y="3335400"/>
            <a:ext cx="8208720" cy="808200"/>
            <a:chOff x="839880" y="3335400"/>
            <a:chExt cx="8208720" cy="808200"/>
          </a:xfrm>
        </p:grpSpPr>
        <p:sp>
          <p:nvSpPr>
            <p:cNvPr id="285" name="Text Box 3"/>
            <p:cNvSpPr/>
            <p:nvPr/>
          </p:nvSpPr>
          <p:spPr>
            <a:xfrm>
              <a:off x="839880" y="3460320"/>
              <a:ext cx="82087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怎样列式呢？（求      公顷的      是多少，可以用                 表示。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277800" y="3365280"/>
              <a:ext cx="532800" cy="778320"/>
              <a:chOff x="3277800" y="3365280"/>
              <a:chExt cx="532800" cy="778320"/>
            </a:xfrm>
          </p:grpSpPr>
          <p:sp>
            <p:nvSpPr>
              <p:cNvPr id="287" name=""/>
              <p:cNvSpPr/>
              <p:nvPr/>
            </p:nvSpPr>
            <p:spPr>
              <a:xfrm>
                <a:off x="3305880" y="3720600"/>
                <a:ext cx="50472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90040" y="3365280"/>
                <a:ext cx="3600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77800" y="378396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468680" y="3362040"/>
              <a:ext cx="532440" cy="778320"/>
              <a:chOff x="4468680" y="3362040"/>
              <a:chExt cx="532440" cy="778320"/>
            </a:xfrm>
          </p:grpSpPr>
          <p:sp>
            <p:nvSpPr>
              <p:cNvPr id="291" name=""/>
              <p:cNvSpPr/>
              <p:nvPr/>
            </p:nvSpPr>
            <p:spPr>
              <a:xfrm>
                <a:off x="4496760" y="3717360"/>
                <a:ext cx="50436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480920" y="3362040"/>
                <a:ext cx="3596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468680" y="3780720"/>
                <a:ext cx="359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681600" y="3335400"/>
              <a:ext cx="1324440" cy="778320"/>
              <a:chOff x="6681600" y="3335400"/>
              <a:chExt cx="1324440" cy="77832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6681600" y="3335400"/>
                <a:ext cx="532800" cy="778320"/>
                <a:chOff x="6681600" y="3335400"/>
                <a:chExt cx="532800" cy="7783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6709680" y="36907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93840" y="333540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81600" y="37540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7473240" y="3335400"/>
                <a:ext cx="532800" cy="778320"/>
                <a:chOff x="7473240" y="3335400"/>
                <a:chExt cx="532800" cy="778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7501320" y="369072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7485480" y="3335400"/>
                  <a:ext cx="36000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3240" y="3754080"/>
                  <a:ext cx="3600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3" name=""/>
              <p:cNvSpPr/>
              <p:nvPr/>
            </p:nvSpPr>
            <p:spPr>
              <a:xfrm>
                <a:off x="7022520" y="3576240"/>
                <a:ext cx="64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4" name=""/>
          <p:cNvGrpSpPr/>
          <p:nvPr/>
        </p:nvGrpSpPr>
        <p:grpSpPr>
          <a:xfrm>
            <a:off x="841320" y="4084560"/>
            <a:ext cx="8494560" cy="778680"/>
            <a:chOff x="841320" y="4084560"/>
            <a:chExt cx="8494560" cy="778680"/>
          </a:xfrm>
        </p:grpSpPr>
        <p:sp>
          <p:nvSpPr>
            <p:cNvPr id="305" name="Text Box 18"/>
            <p:cNvSpPr/>
            <p:nvPr/>
          </p:nvSpPr>
          <p:spPr>
            <a:xfrm>
              <a:off x="841320" y="4294080"/>
              <a:ext cx="849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请你用一张纸动手折一折、画一画，用阴影表示出                  的意思。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6896160" y="4084560"/>
              <a:ext cx="1325520" cy="778680"/>
              <a:chOff x="6896160" y="4084560"/>
              <a:chExt cx="1325520" cy="77868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6896160" y="4084560"/>
                <a:ext cx="533520" cy="778680"/>
                <a:chOff x="6896160" y="4084560"/>
                <a:chExt cx="533520" cy="77868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6924600" y="444024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908760" y="40845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896160" y="45036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7688160" y="4084560"/>
                <a:ext cx="533520" cy="778680"/>
                <a:chOff x="7688160" y="4084560"/>
                <a:chExt cx="533520" cy="7786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7716600" y="4440240"/>
                  <a:ext cx="5050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700760" y="40845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688160" y="45036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"/>
              <p:cNvSpPr/>
              <p:nvPr/>
            </p:nvSpPr>
            <p:spPr>
              <a:xfrm>
                <a:off x="7237440" y="4325760"/>
                <a:ext cx="64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"/>
          <p:cNvGrpSpPr/>
          <p:nvPr/>
        </p:nvGrpSpPr>
        <p:grpSpPr>
          <a:xfrm>
            <a:off x="3438360" y="4743360"/>
            <a:ext cx="1881360" cy="677880"/>
            <a:chOff x="3438360" y="4743360"/>
            <a:chExt cx="1881360" cy="677880"/>
          </a:xfrm>
        </p:grpSpPr>
        <p:sp>
          <p:nvSpPr>
            <p:cNvPr id="317" name=""/>
            <p:cNvSpPr/>
            <p:nvPr/>
          </p:nvSpPr>
          <p:spPr>
            <a:xfrm>
              <a:off x="3965400" y="495144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公顷的      是？公顷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3438360" y="4755960"/>
              <a:ext cx="511200" cy="665280"/>
              <a:chOff x="3438360" y="4755960"/>
              <a:chExt cx="511200" cy="665280"/>
            </a:xfrm>
          </p:grpSpPr>
          <p:sp>
            <p:nvSpPr>
              <p:cNvPr id="319" name=""/>
              <p:cNvSpPr/>
              <p:nvPr/>
            </p:nvSpPr>
            <p:spPr>
              <a:xfrm>
                <a:off x="3444840" y="5035320"/>
                <a:ext cx="504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438360" y="4755960"/>
                <a:ext cx="3603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489120" y="509904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4363920" y="4743360"/>
              <a:ext cx="511200" cy="665280"/>
              <a:chOff x="4363920" y="4743360"/>
              <a:chExt cx="511200" cy="665280"/>
            </a:xfrm>
          </p:grpSpPr>
          <p:sp>
            <p:nvSpPr>
              <p:cNvPr id="323" name=""/>
              <p:cNvSpPr/>
              <p:nvPr/>
            </p:nvSpPr>
            <p:spPr>
              <a:xfrm>
                <a:off x="4370400" y="5022720"/>
                <a:ext cx="50472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63920" y="4743360"/>
                <a:ext cx="360360" cy="385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14680" y="5086440"/>
                <a:ext cx="216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457200" y="6332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一、引入情境，探究新知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691560" y="189000"/>
            <a:ext cx="13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教学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（二）解决问题，提炼方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901800" y="2602080"/>
            <a:ext cx="719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样计算呢？请你写出计算过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1116000" y="4400640"/>
            <a:ext cx="71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观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上面两个问题它们都是求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求一个数的几分之几是多少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2"/>
          <p:cNvSpPr/>
          <p:nvPr/>
        </p:nvSpPr>
        <p:spPr>
          <a:xfrm>
            <a:off x="1117440" y="5319720"/>
            <a:ext cx="71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观察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上面两个算式的计算过程有什么相同之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分子相乘的积做分子，分母相乘的积做分母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6"/>
          <p:cNvSpPr/>
          <p:nvPr/>
        </p:nvSpPr>
        <p:spPr>
          <a:xfrm>
            <a:off x="828720" y="204480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决问题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种玉米的面积是多少公顷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236600" y="3171960"/>
            <a:ext cx="4795920" cy="799200"/>
            <a:chOff x="1236600" y="3171960"/>
            <a:chExt cx="4795920" cy="799200"/>
          </a:xfrm>
        </p:grpSpPr>
        <p:sp>
          <p:nvSpPr>
            <p:cNvPr id="334" name="Text Box 7"/>
            <p:cNvSpPr/>
            <p:nvPr/>
          </p:nvSpPr>
          <p:spPr>
            <a:xfrm>
              <a:off x="1236600" y="3394080"/>
              <a:ext cx="129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预设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2025720" y="3171960"/>
              <a:ext cx="4006800" cy="799200"/>
              <a:chOff x="2025720" y="3171960"/>
              <a:chExt cx="4006800" cy="799200"/>
            </a:xfrm>
          </p:grpSpPr>
          <p:grpSp>
            <p:nvGrpSpPr>
              <p:cNvPr id="336" name=""/>
              <p:cNvGrpSpPr/>
              <p:nvPr/>
            </p:nvGrpSpPr>
            <p:grpSpPr>
              <a:xfrm>
                <a:off x="2025720" y="3192480"/>
                <a:ext cx="1325520" cy="778680"/>
                <a:chOff x="2025720" y="3192480"/>
                <a:chExt cx="1325520" cy="778680"/>
              </a:xfrm>
            </p:grpSpPr>
            <p:grpSp>
              <p:nvGrpSpPr>
                <p:cNvPr id="337" name=""/>
                <p:cNvGrpSpPr/>
                <p:nvPr/>
              </p:nvGrpSpPr>
              <p:grpSpPr>
                <a:xfrm>
                  <a:off x="2025720" y="3192480"/>
                  <a:ext cx="533520" cy="778680"/>
                  <a:chOff x="2025720" y="3192480"/>
                  <a:chExt cx="533520" cy="7786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>
                    <a:off x="2054160" y="3548160"/>
                    <a:ext cx="505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2038320" y="319248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2025720" y="36115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2817720" y="3192480"/>
                  <a:ext cx="533520" cy="778680"/>
                  <a:chOff x="2817720" y="3192480"/>
                  <a:chExt cx="533520" cy="77868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2846160" y="3548160"/>
                    <a:ext cx="50508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5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2830320" y="3192480"/>
                    <a:ext cx="360360" cy="42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2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  <a:ea typeface="宋体"/>
                      </a:rPr>
                      <a:t>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2817720" y="3611520"/>
                    <a:ext cx="360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5" name=""/>
                <p:cNvSpPr/>
                <p:nvPr/>
              </p:nvSpPr>
              <p:spPr>
                <a:xfrm>
                  <a:off x="2367000" y="3433680"/>
                  <a:ext cx="647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6" name=""/>
              <p:cNvSpPr/>
              <p:nvPr/>
            </p:nvSpPr>
            <p:spPr>
              <a:xfrm>
                <a:off x="3156120" y="33991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3519720" y="3181320"/>
                <a:ext cx="850680" cy="778680"/>
                <a:chOff x="3519720" y="3181320"/>
                <a:chExt cx="850680" cy="77868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3535200" y="3537000"/>
                  <a:ext cx="83484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519720" y="3181320"/>
                  <a:ext cx="85068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×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535200" y="3600360"/>
                  <a:ext cx="718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497480" y="3171960"/>
                <a:ext cx="504720" cy="778680"/>
                <a:chOff x="4497480" y="3171960"/>
                <a:chExt cx="504720" cy="7786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497480" y="3527640"/>
                  <a:ext cx="50472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67320" y="3171960"/>
                  <a:ext cx="360360" cy="423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554720" y="3591000"/>
                  <a:ext cx="3603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"/>
              <p:cNvSpPr/>
              <p:nvPr/>
            </p:nvSpPr>
            <p:spPr>
              <a:xfrm>
                <a:off x="4195800" y="3399120"/>
                <a:ext cx="50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07080" y="3399120"/>
                <a:ext cx="12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（公顷）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8-09-07T03:30:4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